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5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E493-FC8B-450F-94D0-11A1A381A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EA2E-AAB2-43E8-8B29-A5457EC0D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35A0-F93A-491C-B47A-B02D8A10A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42C5-3937-4CA7-A4EE-7A307DE11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7C75-639C-4118-9DF6-0EEA5D942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DFBE-971D-42A4-8925-116AC5B57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59F0-BFD2-4AE1-BED2-CFE707533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6259-C0B2-405E-BF08-A36FBBB96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37C4-4DA3-4C97-B4C4-8C74065BD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CF97-6975-4034-A01E-65D665140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98F7-E970-4BC2-8E95-43B17FF07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5831-D578-4AFC-BB7A-FF8B36925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B8DA-39D2-400B-82AD-0FF9AD4F5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C20D-6C52-4A28-B7AA-4A797F3DD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1887-E98F-4319-A211-3F8DC2B95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00FE-94BE-46A9-AD85-3EDB3419D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297C-8BFA-4105-8234-61BD3A38F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99A1-D984-4771-919E-2BB5148AF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7A0E-58AB-41FB-991B-4E8E21113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88DB-FB1F-45C2-9841-0734C3FD4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EDD7-6E25-411F-A34D-E98A39659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A21A-EA25-4A26-946D-23B0C14B7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0226-268D-409C-943D-2F861504E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D48C-E688-4104-8A39-6DAC0F8F2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1DBF-916D-484E-9BCB-A9384C4CD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8E65-720B-4904-A795-65610C576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0987-B3D6-4DFA-B297-931B5F1CE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CEB4-11E2-4381-B126-5720887B0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E2CF-F366-4B16-B802-555C23832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6618-521C-42FB-AAF2-128C51738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351A-D108-4904-9198-0A37D20B2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402D-7EE7-4B10-AE8A-054BDFF15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F11C-D48E-4213-8F51-CA934B430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E8CF-CCD9-48AD-8D2B-5C67D86C8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8EB3-F4E7-4F86-8127-420B52932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CD72-DE9A-4AF2-9935-E723B59D2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4ECA-68E2-4E54-AECA-C87F6E67C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7361-FDC6-4128-90B4-C814EA55B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C0CF-29D2-4C48-91E7-2585BDD52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1EFE-ADAD-41A1-B957-80A64A134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E211-F4A3-4E74-AFF6-E359496F2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8629-D8C5-4B9B-B166-114583EBD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DD9B-88E8-420E-BFAA-660A6F20C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4298-19C4-43A5-8147-D9B38FE4C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3D85-2A3C-458B-8E5C-B60610C5C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354F-E571-478C-98E1-9951E2ADB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4F33-E5AD-4460-B0FD-7ADC2422A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E2B9-CD31-489A-BE3F-6C7CFF487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89BE-A301-45CF-9002-C27474C94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28C5-D928-4CA4-BFFB-3DC27C89F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0682-1934-4E89-B6C5-90DD18258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1D61-D285-45A6-B31E-678BC681A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99E7-E4AB-4F15-8C07-B15378D7E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83C8-569C-4CCA-846A-AED32499A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B31A-4147-4218-A664-B0426FBD9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4238-BEA5-426C-AE66-77D50B31D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B0DF-39D0-4D4A-B7A6-5983AFE36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54EA-F157-4915-8429-69E812EE0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6C78-41E5-4BF1-BDEA-79557AEDF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F24E-9A77-4E55-8FD5-032C945EE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C7A9-D2D8-4795-B4BE-E638D9BE7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32CC-0DC2-4AC3-BE4A-7E79760B8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D6AC-6202-44BD-A211-7783177F4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AA107-40FF-4CCE-9425-216E5F22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98CE9-AC75-4BBD-A78F-8EC0B967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CDE7A-CCC1-4C98-9E1C-BBE3E299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01384-CEF4-41ED-86F1-7F12777B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EAE07-88E8-4B44-AA10-13CA4F4C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DF91B-AE31-4034-89EE-7955A19B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C6959-683B-40E0-962B-AAE7DD05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B43D1-D633-44EB-BB14-FFFC63C2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92573-120B-4652-BE68-72308AF8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0EAB6-F64C-40AA-9B83-5FBA2772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AB606-A241-49FD-B12E-A9BD0F6B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0BDFC-70EA-4C67-A59D-DEAFC12F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A09A-CB8D-4736-9B07-6A4968A3F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5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8024040" y="5913360"/>
              <a:ext cx="86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Chem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Kinet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82e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Chapter 14</a:t>
            </a:r>
            <a:br>
              <a:rPr sz="54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Chemical</a:t>
            </a: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 Kinetics</a:t>
            </a:r>
            <a:endParaRPr b="0" lang="en-US" sz="5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Rates 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562720" y="1981080"/>
            <a:ext cx="35049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Note that the average rate decreases as the reaction proceeds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is because as the reaction goes forward, there are fewer collisions between reactant molecules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990720" y="1295280"/>
            <a:ext cx="71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H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C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14_T01"/>
          <p:cNvPicPr/>
          <p:nvPr/>
        </p:nvPicPr>
        <p:blipFill>
          <a:blip r:embed="rId1"/>
          <a:srcRect l="0" t="9593" r="6136" b="4210"/>
          <a:stretch/>
        </p:blipFill>
        <p:spPr>
          <a:xfrm>
            <a:off x="228600" y="2133720"/>
            <a:ext cx="5257800" cy="3200400"/>
          </a:xfrm>
          <a:prstGeom prst="rect">
            <a:avLst/>
          </a:prstGeom>
          <a:ln w="0">
            <a:noFill/>
          </a:ln>
        </p:spPr>
      </p:pic>
      <p:sp>
        <p:nvSpPr>
          <p:cNvPr id="84" name="Oval 11"/>
          <p:cNvSpPr/>
          <p:nvPr/>
        </p:nvSpPr>
        <p:spPr>
          <a:xfrm>
            <a:off x="3809880" y="2438280"/>
            <a:ext cx="1600200" cy="2590920"/>
          </a:xfrm>
          <a:prstGeom prst="ellipse">
            <a:avLst/>
          </a:prstGeom>
          <a:noFill/>
          <a:ln w="22320">
            <a:solidFill>
              <a:srgbClr val="c82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14_04"/>
          <p:cNvPicPr/>
          <p:nvPr/>
        </p:nvPicPr>
        <p:blipFill>
          <a:blip r:embed="rId1"/>
          <a:srcRect l="0" t="0" r="0" b="4680"/>
          <a:stretch/>
        </p:blipFill>
        <p:spPr>
          <a:xfrm>
            <a:off x="4648320" y="1905120"/>
            <a:ext cx="3830400" cy="3879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Rates 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 plot of [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l] vs. time for this reaction yields a curve like this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 slope of a line tangent to the curve at any point is the </a:t>
            </a:r>
            <a:r>
              <a:rPr b="0" lang="en-US" sz="2400" spc="-1" strike="noStrike">
                <a:solidFill>
                  <a:srgbClr val="00197d"/>
                </a:solidFill>
                <a:latin typeface="Arial"/>
              </a:rPr>
              <a:t>instantaneous rat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at that tim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990720" y="1295280"/>
            <a:ext cx="71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H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C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14_04"/>
          <p:cNvPicPr/>
          <p:nvPr/>
        </p:nvPicPr>
        <p:blipFill>
          <a:blip r:embed="rId1"/>
          <a:srcRect l="0" t="0" r="0" b="4680"/>
          <a:stretch/>
        </p:blipFill>
        <p:spPr>
          <a:xfrm>
            <a:off x="4648320" y="1905120"/>
            <a:ext cx="3830400" cy="3879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Rates 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ll reactions slow down over tim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refore, the best indicator of the rate of a reaction is the instantaneous rate near the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beginnin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of the reaction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990720" y="1295280"/>
            <a:ext cx="71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H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C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"/>
          <p:cNvSpPr/>
          <p:nvPr/>
        </p:nvSpPr>
        <p:spPr>
          <a:xfrm>
            <a:off x="6400800" y="3657600"/>
            <a:ext cx="1905120" cy="1447920"/>
          </a:xfrm>
          <a:prstGeom prst="ellipse">
            <a:avLst/>
          </a:prstGeom>
          <a:noFill/>
          <a:ln w="19080">
            <a:solidFill>
              <a:srgbClr val="c82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5105520" y="1828800"/>
            <a:ext cx="1143000" cy="1828800"/>
          </a:xfrm>
          <a:prstGeom prst="ellipse">
            <a:avLst/>
          </a:prstGeom>
          <a:noFill/>
          <a:ln w="19080">
            <a:solidFill>
              <a:srgbClr val="c82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4_04"/>
          <p:cNvPicPr/>
          <p:nvPr/>
        </p:nvPicPr>
        <p:blipFill>
          <a:blip r:embed="rId1"/>
          <a:srcRect l="0" t="0" r="0" b="4680"/>
          <a:stretch/>
        </p:blipFill>
        <p:spPr>
          <a:xfrm>
            <a:off x="4648320" y="1905120"/>
            <a:ext cx="3830400" cy="3879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Rates and Stoichiometry 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In this reaction, the ratio of 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l to 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H is 1:1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us, the rate of disappearance of 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l is the same as the rate of appearance of 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H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990720" y="1295280"/>
            <a:ext cx="71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H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C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"/>
          <p:cNvSpPr/>
          <p:nvPr/>
        </p:nvSpPr>
        <p:spPr>
          <a:xfrm>
            <a:off x="6400800" y="3657600"/>
            <a:ext cx="1905120" cy="1447920"/>
          </a:xfrm>
          <a:prstGeom prst="ellipse">
            <a:avLst/>
          </a:prstGeom>
          <a:noFill/>
          <a:ln w="19080">
            <a:solidFill>
              <a:srgbClr val="c82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5105520" y="1828800"/>
            <a:ext cx="1143000" cy="1828800"/>
          </a:xfrm>
          <a:prstGeom prst="ellipse">
            <a:avLst/>
          </a:prstGeom>
          <a:noFill/>
          <a:ln w="19080">
            <a:solidFill>
              <a:srgbClr val="c82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7"/>
          <p:cNvGrpSpPr/>
          <p:nvPr/>
        </p:nvGrpSpPr>
        <p:grpSpPr>
          <a:xfrm>
            <a:off x="153720" y="5486400"/>
            <a:ext cx="5141880" cy="875880"/>
            <a:chOff x="153720" y="5486400"/>
            <a:chExt cx="5141880" cy="875880"/>
          </a:xfrm>
        </p:grpSpPr>
        <p:sp>
          <p:nvSpPr>
            <p:cNvPr id="102" name="Rectangle 9"/>
            <p:cNvSpPr/>
            <p:nvPr/>
          </p:nvSpPr>
          <p:spPr>
            <a:xfrm>
              <a:off x="153720" y="566892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Rate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2"/>
            <p:cNvGrpSpPr/>
            <p:nvPr/>
          </p:nvGrpSpPr>
          <p:grpSpPr>
            <a:xfrm>
              <a:off x="1330200" y="5486400"/>
              <a:ext cx="1676160" cy="875880"/>
              <a:chOff x="1330200" y="5486400"/>
              <a:chExt cx="1676160" cy="875880"/>
            </a:xfrm>
          </p:grpSpPr>
          <p:sp>
            <p:nvSpPr>
              <p:cNvPr id="104" name="Rectangle 10"/>
              <p:cNvSpPr/>
              <p:nvPr/>
            </p:nvSpPr>
            <p:spPr>
              <a:xfrm>
                <a:off x="1407960" y="5486400"/>
                <a:ext cx="156312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-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[C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9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l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>
                <a:off x="1330200" y="5919840"/>
                <a:ext cx="167616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Rectangle 13"/>
            <p:cNvSpPr/>
            <p:nvPr/>
          </p:nvSpPr>
          <p:spPr>
            <a:xfrm>
              <a:off x="3095280" y="5668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16"/>
            <p:cNvGrpSpPr/>
            <p:nvPr/>
          </p:nvGrpSpPr>
          <p:grpSpPr>
            <a:xfrm>
              <a:off x="3543120" y="5486400"/>
              <a:ext cx="1752480" cy="875880"/>
              <a:chOff x="3543120" y="5486400"/>
              <a:chExt cx="1752480" cy="875880"/>
            </a:xfrm>
          </p:grpSpPr>
          <p:sp>
            <p:nvSpPr>
              <p:cNvPr id="108" name="Rectangle 14"/>
              <p:cNvSpPr/>
              <p:nvPr/>
            </p:nvSpPr>
            <p:spPr>
              <a:xfrm>
                <a:off x="3623760" y="5486400"/>
                <a:ext cx="163152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[C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9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OH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5"/>
              <p:cNvSpPr/>
              <p:nvPr/>
            </p:nvSpPr>
            <p:spPr>
              <a:xfrm>
                <a:off x="3543120" y="5927760"/>
                <a:ext cx="175248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Rates and Stoichiometr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hat if the ratio is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:1?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377080" y="2819520"/>
            <a:ext cx="409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2 HI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I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7600" y="3357720"/>
            <a:ext cx="304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n such a cas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0"/>
          <p:cNvGrpSpPr/>
          <p:nvPr/>
        </p:nvGrpSpPr>
        <p:grpSpPr>
          <a:xfrm>
            <a:off x="2058480" y="3962520"/>
            <a:ext cx="3896280" cy="1006200"/>
            <a:chOff x="2058480" y="3962520"/>
            <a:chExt cx="3896280" cy="1006200"/>
          </a:xfrm>
        </p:grpSpPr>
        <p:sp>
          <p:nvSpPr>
            <p:cNvPr id="115" name="Rectangle 6"/>
            <p:cNvSpPr/>
            <p:nvPr/>
          </p:nvSpPr>
          <p:spPr>
            <a:xfrm>
              <a:off x="2058480" y="4151160"/>
              <a:ext cx="164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Rate =  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9"/>
            <p:cNvGrpSpPr/>
            <p:nvPr/>
          </p:nvGrpSpPr>
          <p:grpSpPr>
            <a:xfrm>
              <a:off x="3624480" y="3962520"/>
              <a:ext cx="378720" cy="947160"/>
              <a:chOff x="3624480" y="3962520"/>
              <a:chExt cx="378720" cy="947160"/>
            </a:xfrm>
          </p:grpSpPr>
          <p:sp>
            <p:nvSpPr>
              <p:cNvPr id="117" name="Rectangle 7"/>
              <p:cNvSpPr/>
              <p:nvPr/>
            </p:nvSpPr>
            <p:spPr>
              <a:xfrm>
                <a:off x="3624480" y="3962520"/>
                <a:ext cx="37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8"/>
              <p:cNvSpPr/>
              <p:nvPr/>
            </p:nvSpPr>
            <p:spPr>
              <a:xfrm>
                <a:off x="3641760" y="4421520"/>
                <a:ext cx="34776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13"/>
            <p:cNvGrpSpPr/>
            <p:nvPr/>
          </p:nvGrpSpPr>
          <p:grpSpPr>
            <a:xfrm>
              <a:off x="3973680" y="3962520"/>
              <a:ext cx="951840" cy="947160"/>
              <a:chOff x="3973680" y="3962520"/>
              <a:chExt cx="951840" cy="947160"/>
            </a:xfrm>
          </p:grpSpPr>
          <p:sp>
            <p:nvSpPr>
              <p:cNvPr id="120" name="Rectangle 11"/>
              <p:cNvSpPr/>
              <p:nvPr/>
            </p:nvSpPr>
            <p:spPr>
              <a:xfrm>
                <a:off x="3973680" y="3962520"/>
                <a:ext cx="9518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HI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800" spc="-1" strike="noStrike">
                    <a:solidFill>
                      <a:srgbClr val="c82e32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2"/>
              <p:cNvSpPr/>
              <p:nvPr/>
            </p:nvSpPr>
            <p:spPr>
              <a:xfrm>
                <a:off x="4106880" y="4429080"/>
                <a:ext cx="68580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Rectangle 14"/>
            <p:cNvSpPr/>
            <p:nvPr/>
          </p:nvSpPr>
          <p:spPr>
            <a:xfrm>
              <a:off x="4821480" y="41814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17"/>
            <p:cNvGrpSpPr/>
            <p:nvPr/>
          </p:nvGrpSpPr>
          <p:grpSpPr>
            <a:xfrm>
              <a:off x="5144760" y="3962520"/>
              <a:ext cx="810000" cy="1006200"/>
              <a:chOff x="5144760" y="3962520"/>
              <a:chExt cx="810000" cy="1006200"/>
            </a:xfrm>
          </p:grpSpPr>
          <p:sp>
            <p:nvSpPr>
              <p:cNvPr id="124" name="Rectangle 15"/>
              <p:cNvSpPr/>
              <p:nvPr/>
            </p:nvSpPr>
            <p:spPr>
              <a:xfrm>
                <a:off x="5144760" y="3962520"/>
                <a:ext cx="81000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I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800" spc="-1" strike="noStrike">
                    <a:solidFill>
                      <a:srgbClr val="c82e32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16"/>
              <p:cNvSpPr/>
              <p:nvPr/>
            </p:nvSpPr>
            <p:spPr>
              <a:xfrm>
                <a:off x="5207040" y="4448160"/>
                <a:ext cx="68580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Rates and Stoichiometr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o generalize, then, for the reaction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28" name="Group 23"/>
          <p:cNvGrpSpPr/>
          <p:nvPr/>
        </p:nvGrpSpPr>
        <p:grpSpPr>
          <a:xfrm>
            <a:off x="2508480" y="2895480"/>
            <a:ext cx="4107600" cy="520560"/>
            <a:chOff x="2508480" y="2895480"/>
            <a:chExt cx="4107600" cy="520560"/>
          </a:xfrm>
        </p:grpSpPr>
        <p:sp>
          <p:nvSpPr>
            <p:cNvPr id="129" name="Rectangle 19"/>
            <p:cNvSpPr/>
            <p:nvPr/>
          </p:nvSpPr>
          <p:spPr>
            <a:xfrm>
              <a:off x="2508480" y="2895480"/>
              <a:ext cx="155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A + 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B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>
              <a:off x="4144680" y="3174840"/>
              <a:ext cx="914040" cy="0"/>
            </a:xfrm>
            <a:prstGeom prst="line">
              <a:avLst/>
            </a:prstGeom>
            <a:ln w="19080">
              <a:solidFill>
                <a:srgbClr val="c82e3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1"/>
            <p:cNvSpPr/>
            <p:nvPr/>
          </p:nvSpPr>
          <p:spPr>
            <a:xfrm>
              <a:off x="5141880" y="2895480"/>
              <a:ext cx="147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C + 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d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64"/>
          <p:cNvGrpSpPr/>
          <p:nvPr/>
        </p:nvGrpSpPr>
        <p:grpSpPr>
          <a:xfrm>
            <a:off x="231120" y="3767040"/>
            <a:ext cx="8671320" cy="958320"/>
            <a:chOff x="231120" y="3767040"/>
            <a:chExt cx="8671320" cy="958320"/>
          </a:xfrm>
        </p:grpSpPr>
        <p:sp>
          <p:nvSpPr>
            <p:cNvPr id="133" name="Rectangle 24"/>
            <p:cNvSpPr/>
            <p:nvPr/>
          </p:nvSpPr>
          <p:spPr>
            <a:xfrm>
              <a:off x="231120" y="4017960"/>
              <a:ext cx="164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Rate =  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60"/>
            <p:cNvGrpSpPr/>
            <p:nvPr/>
          </p:nvGrpSpPr>
          <p:grpSpPr>
            <a:xfrm>
              <a:off x="1876320" y="3767040"/>
              <a:ext cx="1292040" cy="958320"/>
              <a:chOff x="1876320" y="3767040"/>
              <a:chExt cx="1292040" cy="958320"/>
            </a:xfrm>
          </p:grpSpPr>
          <p:grpSp>
            <p:nvGrpSpPr>
              <p:cNvPr id="135" name="Group 28"/>
              <p:cNvGrpSpPr/>
              <p:nvPr/>
            </p:nvGrpSpPr>
            <p:grpSpPr>
              <a:xfrm>
                <a:off x="1876320" y="3767040"/>
                <a:ext cx="457200" cy="947160"/>
                <a:chOff x="1876320" y="3767040"/>
                <a:chExt cx="457200" cy="947160"/>
              </a:xfrm>
            </p:grpSpPr>
            <p:sp>
              <p:nvSpPr>
                <p:cNvPr id="136" name="Rectangle 25"/>
                <p:cNvSpPr/>
                <p:nvPr/>
              </p:nvSpPr>
              <p:spPr>
                <a:xfrm>
                  <a:off x="1917720" y="3767040"/>
                  <a:ext cx="3787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27"/>
                <p:cNvSpPr/>
                <p:nvPr/>
              </p:nvSpPr>
              <p:spPr>
                <a:xfrm>
                  <a:off x="1876320" y="4271760"/>
                  <a:ext cx="457200" cy="0"/>
                </a:xfrm>
                <a:prstGeom prst="line">
                  <a:avLst/>
                </a:prstGeom>
                <a:ln w="2232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30"/>
              <p:cNvGrpSpPr/>
              <p:nvPr/>
            </p:nvGrpSpPr>
            <p:grpSpPr>
              <a:xfrm>
                <a:off x="2335320" y="3778200"/>
                <a:ext cx="833040" cy="947160"/>
                <a:chOff x="2335320" y="3778200"/>
                <a:chExt cx="833040" cy="947160"/>
              </a:xfrm>
            </p:grpSpPr>
            <p:sp>
              <p:nvSpPr>
                <p:cNvPr id="139" name="Rectangle 26"/>
                <p:cNvSpPr/>
                <p:nvPr/>
              </p:nvSpPr>
              <p:spPr>
                <a:xfrm>
                  <a:off x="2335320" y="3778200"/>
                  <a:ext cx="8330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[A]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i="1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t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29"/>
                <p:cNvSpPr/>
                <p:nvPr/>
              </p:nvSpPr>
              <p:spPr>
                <a:xfrm>
                  <a:off x="2409480" y="4268880"/>
                  <a:ext cx="685800" cy="0"/>
                </a:xfrm>
                <a:prstGeom prst="line">
                  <a:avLst/>
                </a:prstGeom>
                <a:ln w="2232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" name="Rectangle 32"/>
            <p:cNvSpPr/>
            <p:nvPr/>
          </p:nvSpPr>
          <p:spPr>
            <a:xfrm>
              <a:off x="3261960" y="4006800"/>
              <a:ext cx="66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=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61"/>
            <p:cNvGrpSpPr/>
            <p:nvPr/>
          </p:nvGrpSpPr>
          <p:grpSpPr>
            <a:xfrm>
              <a:off x="3933720" y="3767040"/>
              <a:ext cx="1292040" cy="958320"/>
              <a:chOff x="3933720" y="3767040"/>
              <a:chExt cx="1292040" cy="958320"/>
            </a:xfrm>
          </p:grpSpPr>
          <p:grpSp>
            <p:nvGrpSpPr>
              <p:cNvPr id="143" name="Group 34"/>
              <p:cNvGrpSpPr/>
              <p:nvPr/>
            </p:nvGrpSpPr>
            <p:grpSpPr>
              <a:xfrm>
                <a:off x="3933720" y="3767040"/>
                <a:ext cx="457200" cy="947160"/>
                <a:chOff x="3933720" y="3767040"/>
                <a:chExt cx="457200" cy="947160"/>
              </a:xfrm>
            </p:grpSpPr>
            <p:sp>
              <p:nvSpPr>
                <p:cNvPr id="144" name="Rectangle 35"/>
                <p:cNvSpPr/>
                <p:nvPr/>
              </p:nvSpPr>
              <p:spPr>
                <a:xfrm>
                  <a:off x="3975120" y="3767040"/>
                  <a:ext cx="3787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36"/>
                <p:cNvSpPr/>
                <p:nvPr/>
              </p:nvSpPr>
              <p:spPr>
                <a:xfrm>
                  <a:off x="3933720" y="4271760"/>
                  <a:ext cx="457200" cy="0"/>
                </a:xfrm>
                <a:prstGeom prst="line">
                  <a:avLst/>
                </a:prstGeom>
                <a:ln w="2232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37"/>
              <p:cNvGrpSpPr/>
              <p:nvPr/>
            </p:nvGrpSpPr>
            <p:grpSpPr>
              <a:xfrm>
                <a:off x="4392720" y="3778200"/>
                <a:ext cx="833040" cy="947160"/>
                <a:chOff x="4392720" y="3778200"/>
                <a:chExt cx="833040" cy="947160"/>
              </a:xfrm>
            </p:grpSpPr>
            <p:sp>
              <p:nvSpPr>
                <p:cNvPr id="147" name="Rectangle 38"/>
                <p:cNvSpPr/>
                <p:nvPr/>
              </p:nvSpPr>
              <p:spPr>
                <a:xfrm>
                  <a:off x="4392720" y="3778200"/>
                  <a:ext cx="8330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[B]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i="1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t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39"/>
                <p:cNvSpPr/>
                <p:nvPr/>
              </p:nvSpPr>
              <p:spPr>
                <a:xfrm>
                  <a:off x="4465440" y="4268880"/>
                  <a:ext cx="685800" cy="0"/>
                </a:xfrm>
                <a:prstGeom prst="line">
                  <a:avLst/>
                </a:prstGeom>
                <a:ln w="2232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Rectangle 40"/>
            <p:cNvSpPr/>
            <p:nvPr/>
          </p:nvSpPr>
          <p:spPr>
            <a:xfrm>
              <a:off x="5307120" y="401148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62"/>
            <p:cNvGrpSpPr/>
            <p:nvPr/>
          </p:nvGrpSpPr>
          <p:grpSpPr>
            <a:xfrm>
              <a:off x="5709960" y="3767040"/>
              <a:ext cx="1287360" cy="958320"/>
              <a:chOff x="5709960" y="3767040"/>
              <a:chExt cx="1287360" cy="958320"/>
            </a:xfrm>
          </p:grpSpPr>
          <p:grpSp>
            <p:nvGrpSpPr>
              <p:cNvPr id="151" name="Group 42"/>
              <p:cNvGrpSpPr/>
              <p:nvPr/>
            </p:nvGrpSpPr>
            <p:grpSpPr>
              <a:xfrm>
                <a:off x="5709960" y="3767040"/>
                <a:ext cx="457200" cy="947160"/>
                <a:chOff x="5709960" y="3767040"/>
                <a:chExt cx="457200" cy="947160"/>
              </a:xfrm>
            </p:grpSpPr>
            <p:sp>
              <p:nvSpPr>
                <p:cNvPr id="152" name="Rectangle 43"/>
                <p:cNvSpPr/>
                <p:nvPr/>
              </p:nvSpPr>
              <p:spPr>
                <a:xfrm>
                  <a:off x="5751360" y="3767040"/>
                  <a:ext cx="3787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44"/>
                <p:cNvSpPr/>
                <p:nvPr/>
              </p:nvSpPr>
              <p:spPr>
                <a:xfrm>
                  <a:off x="5709960" y="4271760"/>
                  <a:ext cx="457200" cy="0"/>
                </a:xfrm>
                <a:prstGeom prst="line">
                  <a:avLst/>
                </a:prstGeom>
                <a:ln w="2232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45"/>
              <p:cNvGrpSpPr/>
              <p:nvPr/>
            </p:nvGrpSpPr>
            <p:grpSpPr>
              <a:xfrm>
                <a:off x="6144480" y="3778200"/>
                <a:ext cx="852840" cy="947160"/>
                <a:chOff x="6144480" y="3778200"/>
                <a:chExt cx="852840" cy="947160"/>
              </a:xfrm>
            </p:grpSpPr>
            <p:sp>
              <p:nvSpPr>
                <p:cNvPr id="155" name="Rectangle 46"/>
                <p:cNvSpPr/>
                <p:nvPr/>
              </p:nvSpPr>
              <p:spPr>
                <a:xfrm>
                  <a:off x="6144480" y="3778200"/>
                  <a:ext cx="852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[C]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i="1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t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47"/>
                <p:cNvSpPr/>
                <p:nvPr/>
              </p:nvSpPr>
              <p:spPr>
                <a:xfrm>
                  <a:off x="6227280" y="4268880"/>
                  <a:ext cx="685800" cy="0"/>
                </a:xfrm>
                <a:prstGeom prst="line">
                  <a:avLst/>
                </a:prstGeom>
                <a:ln w="2232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Group 63"/>
            <p:cNvGrpSpPr/>
            <p:nvPr/>
          </p:nvGrpSpPr>
          <p:grpSpPr>
            <a:xfrm>
              <a:off x="7591320" y="3767040"/>
              <a:ext cx="1311120" cy="958320"/>
              <a:chOff x="7591320" y="3767040"/>
              <a:chExt cx="1311120" cy="958320"/>
            </a:xfrm>
          </p:grpSpPr>
          <p:grpSp>
            <p:nvGrpSpPr>
              <p:cNvPr id="158" name="Group 49"/>
              <p:cNvGrpSpPr/>
              <p:nvPr/>
            </p:nvGrpSpPr>
            <p:grpSpPr>
              <a:xfrm>
                <a:off x="7591320" y="3767040"/>
                <a:ext cx="457200" cy="947160"/>
                <a:chOff x="7591320" y="3767040"/>
                <a:chExt cx="457200" cy="947160"/>
              </a:xfrm>
            </p:grpSpPr>
            <p:sp>
              <p:nvSpPr>
                <p:cNvPr id="159" name="Rectangle 50"/>
                <p:cNvSpPr/>
                <p:nvPr/>
              </p:nvSpPr>
              <p:spPr>
                <a:xfrm>
                  <a:off x="7632720" y="3767040"/>
                  <a:ext cx="3787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1"/>
                <p:cNvSpPr/>
                <p:nvPr/>
              </p:nvSpPr>
              <p:spPr>
                <a:xfrm>
                  <a:off x="7591320" y="4271760"/>
                  <a:ext cx="457200" cy="0"/>
                </a:xfrm>
                <a:prstGeom prst="line">
                  <a:avLst/>
                </a:prstGeom>
                <a:ln w="2232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52"/>
              <p:cNvGrpSpPr/>
              <p:nvPr/>
            </p:nvGrpSpPr>
            <p:grpSpPr>
              <a:xfrm>
                <a:off x="8049600" y="3778200"/>
                <a:ext cx="852840" cy="947160"/>
                <a:chOff x="8049600" y="3778200"/>
                <a:chExt cx="852840" cy="947160"/>
              </a:xfrm>
            </p:grpSpPr>
            <p:sp>
              <p:nvSpPr>
                <p:cNvPr id="162" name="Rectangle 53"/>
                <p:cNvSpPr/>
                <p:nvPr/>
              </p:nvSpPr>
              <p:spPr>
                <a:xfrm>
                  <a:off x="8049600" y="3778200"/>
                  <a:ext cx="852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[D]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i="1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t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4"/>
                <p:cNvSpPr/>
                <p:nvPr/>
              </p:nvSpPr>
              <p:spPr>
                <a:xfrm>
                  <a:off x="8132400" y="4268880"/>
                  <a:ext cx="685800" cy="0"/>
                </a:xfrm>
                <a:prstGeom prst="line">
                  <a:avLst/>
                </a:prstGeom>
                <a:ln w="2232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" name="Rectangle 55"/>
            <p:cNvSpPr/>
            <p:nvPr/>
          </p:nvSpPr>
          <p:spPr>
            <a:xfrm>
              <a:off x="7135920" y="401328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oncentration and Rat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ne can gain information about the rate of a reaction by seeing how the rate changes with changes in concentrat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oncentration and Rat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we compare Experiments 1 and 2, we see that when [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doubles, the initial rate doubl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69" name="Group 13"/>
          <p:cNvGrpSpPr/>
          <p:nvPr/>
        </p:nvGrpSpPr>
        <p:grpSpPr>
          <a:xfrm>
            <a:off x="855000" y="3962520"/>
            <a:ext cx="7291440" cy="685800"/>
            <a:chOff x="855000" y="3962520"/>
            <a:chExt cx="7291440" cy="685800"/>
          </a:xfrm>
        </p:grpSpPr>
        <p:sp>
          <p:nvSpPr>
            <p:cNvPr id="170" name="Rectangle 10"/>
            <p:cNvSpPr/>
            <p:nvPr/>
          </p:nvSpPr>
          <p:spPr>
            <a:xfrm>
              <a:off x="855000" y="3967200"/>
              <a:ext cx="322056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N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NO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36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1"/>
            <p:cNvSpPr/>
            <p:nvPr/>
          </p:nvSpPr>
          <p:spPr>
            <a:xfrm>
              <a:off x="5601240" y="3962520"/>
              <a:ext cx="2545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2 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2"/>
            <p:cNvSpPr/>
            <p:nvPr/>
          </p:nvSpPr>
          <p:spPr>
            <a:xfrm>
              <a:off x="4389120" y="4222800"/>
              <a:ext cx="1082880" cy="0"/>
            </a:xfrm>
            <a:prstGeom prst="line">
              <a:avLst/>
            </a:prstGeom>
            <a:ln w="19080">
              <a:solidFill>
                <a:srgbClr val="c82e3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Picture 16" descr="14_T02"/>
          <p:cNvPicPr/>
          <p:nvPr/>
        </p:nvPicPr>
        <p:blipFill>
          <a:blip r:embed="rId1"/>
          <a:srcRect l="0" t="17868" r="0" b="7691"/>
          <a:stretch/>
        </p:blipFill>
        <p:spPr>
          <a:xfrm>
            <a:off x="1074600" y="1600200"/>
            <a:ext cx="699480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oncentration and Rat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Likewise, when we compare Experiments 5 and 6, we see that when [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doubles, the initial rate doubl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855000" y="3962520"/>
            <a:ext cx="7291440" cy="685800"/>
            <a:chOff x="855000" y="3962520"/>
            <a:chExt cx="7291440" cy="685800"/>
          </a:xfrm>
        </p:grpSpPr>
        <p:sp>
          <p:nvSpPr>
            <p:cNvPr id="177" name="Rectangle 5"/>
            <p:cNvSpPr/>
            <p:nvPr/>
          </p:nvSpPr>
          <p:spPr>
            <a:xfrm>
              <a:off x="855000" y="3967200"/>
              <a:ext cx="322056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N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NO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36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5601240" y="3962520"/>
              <a:ext cx="2545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2 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7"/>
            <p:cNvSpPr/>
            <p:nvPr/>
          </p:nvSpPr>
          <p:spPr>
            <a:xfrm>
              <a:off x="4389120" y="4222800"/>
              <a:ext cx="1082880" cy="0"/>
            </a:xfrm>
            <a:prstGeom prst="line">
              <a:avLst/>
            </a:prstGeom>
            <a:ln w="19080">
              <a:solidFill>
                <a:srgbClr val="c82e3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8" descr="14_T02"/>
          <p:cNvPicPr/>
          <p:nvPr/>
        </p:nvPicPr>
        <p:blipFill>
          <a:blip r:embed="rId1"/>
          <a:srcRect l="0" t="17868" r="0" b="7691"/>
          <a:stretch/>
        </p:blipFill>
        <p:spPr>
          <a:xfrm>
            <a:off x="1074600" y="1600200"/>
            <a:ext cx="699480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oncentration and Rat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mean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[N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hich, when written as an equation, becom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=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[N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equation is called the 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rate law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and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is the 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rate constant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536040" y="313848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Kinetic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n kinetics we study the rate at which a chemical process occur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Besides information about the speed at which reactions occur, kinetics also sheds light on the 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reaction mechanism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(exactly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the reaction occurs)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ate Law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 rate law shows the relationship between the reaction rate and the concentrations of reactant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xponents tell the 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order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f the reaction with respect to each reactant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nce the rate law i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=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[N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reaction i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rst-order in [N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and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rst-order in [N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ate Law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=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[N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overall reaction order can be found by adding the exponents on the reactants in the rate law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reaction is second-order overal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Integrated Rate Law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Using calculus to integrate the rate law for a first-order process gives u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90" name="Group 13"/>
          <p:cNvGrpSpPr/>
          <p:nvPr/>
        </p:nvGrpSpPr>
        <p:grpSpPr>
          <a:xfrm>
            <a:off x="3192840" y="2895480"/>
            <a:ext cx="2806920" cy="1203480"/>
            <a:chOff x="3192840" y="2895480"/>
            <a:chExt cx="2806920" cy="1203480"/>
          </a:xfrm>
        </p:grpSpPr>
        <p:grpSp>
          <p:nvGrpSpPr>
            <p:cNvPr id="191" name="Group 8"/>
            <p:cNvGrpSpPr/>
            <p:nvPr/>
          </p:nvGrpSpPr>
          <p:grpSpPr>
            <a:xfrm>
              <a:off x="3192840" y="2895480"/>
              <a:ext cx="1468080" cy="1203480"/>
              <a:chOff x="3192840" y="2895480"/>
              <a:chExt cx="1468080" cy="1203480"/>
            </a:xfrm>
          </p:grpSpPr>
          <p:sp>
            <p:nvSpPr>
              <p:cNvPr id="192" name="Rectangle 4"/>
              <p:cNvSpPr/>
              <p:nvPr/>
            </p:nvSpPr>
            <p:spPr>
              <a:xfrm>
                <a:off x="3192840" y="3138120"/>
                <a:ext cx="496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l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Group 7"/>
              <p:cNvGrpSpPr/>
              <p:nvPr/>
            </p:nvGrpSpPr>
            <p:grpSpPr>
              <a:xfrm>
                <a:off x="3746520" y="2895480"/>
                <a:ext cx="914400" cy="1203480"/>
                <a:chOff x="3746520" y="2895480"/>
                <a:chExt cx="914400" cy="1203480"/>
              </a:xfrm>
            </p:grpSpPr>
            <p:sp>
              <p:nvSpPr>
                <p:cNvPr id="194" name="Rectangle 5"/>
                <p:cNvSpPr/>
                <p:nvPr/>
              </p:nvSpPr>
              <p:spPr>
                <a:xfrm>
                  <a:off x="3798000" y="2895480"/>
                  <a:ext cx="808560" cy="120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c82e32"/>
                      </a:solidFill>
                      <a:latin typeface="Arial"/>
                    </a:rPr>
                    <a:t>[A]</a:t>
                  </a:r>
                  <a:r>
                    <a:rPr b="0" i="1" lang="en-US" sz="3200" spc="-1" strike="noStrike" baseline="-25000">
                      <a:solidFill>
                        <a:srgbClr val="c82e32"/>
                      </a:solidFill>
                      <a:latin typeface="Arial"/>
                    </a:rPr>
                    <a:t>t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c82e32"/>
                      </a:solidFill>
                      <a:latin typeface="Arial"/>
                    </a:rPr>
                    <a:t>[A]</a:t>
                  </a:r>
                  <a:r>
                    <a:rPr b="0" lang="en-US" sz="3200" spc="-1" strike="noStrike" baseline="-25000">
                      <a:solidFill>
                        <a:srgbClr val="c82e32"/>
                      </a:solidFill>
                      <a:latin typeface="Arial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6"/>
                <p:cNvSpPr/>
                <p:nvPr/>
              </p:nvSpPr>
              <p:spPr>
                <a:xfrm>
                  <a:off x="3746520" y="3479400"/>
                  <a:ext cx="91440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6" name="Rectangle 9"/>
            <p:cNvSpPr/>
            <p:nvPr/>
          </p:nvSpPr>
          <p:spPr>
            <a:xfrm>
              <a:off x="4801320" y="3144960"/>
              <a:ext cx="119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=  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1"/>
          <p:cNvSpPr/>
          <p:nvPr/>
        </p:nvSpPr>
        <p:spPr>
          <a:xfrm>
            <a:off x="992520" y="388620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1066680" y="4648320"/>
            <a:ext cx="746784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A]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the initial concentration of A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A]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the concentration of A at some time,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during the course of th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Integrated Rate Law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Manipulating this equation produces… 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01" name="Group 16"/>
          <p:cNvGrpSpPr/>
          <p:nvPr/>
        </p:nvGrpSpPr>
        <p:grpSpPr>
          <a:xfrm>
            <a:off x="2700720" y="2644920"/>
            <a:ext cx="2841840" cy="1203480"/>
            <a:chOff x="2700720" y="2644920"/>
            <a:chExt cx="2841840" cy="1203480"/>
          </a:xfrm>
        </p:grpSpPr>
        <p:grpSp>
          <p:nvGrpSpPr>
            <p:cNvPr id="202" name="Group 5"/>
            <p:cNvGrpSpPr/>
            <p:nvPr/>
          </p:nvGrpSpPr>
          <p:grpSpPr>
            <a:xfrm>
              <a:off x="2700720" y="2644920"/>
              <a:ext cx="1468080" cy="1203480"/>
              <a:chOff x="2700720" y="2644920"/>
              <a:chExt cx="1468080" cy="1203480"/>
            </a:xfrm>
          </p:grpSpPr>
          <p:sp>
            <p:nvSpPr>
              <p:cNvPr id="203" name="Rectangle 6"/>
              <p:cNvSpPr/>
              <p:nvPr/>
            </p:nvSpPr>
            <p:spPr>
              <a:xfrm>
                <a:off x="2700720" y="2887560"/>
                <a:ext cx="496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l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" name="Group 7"/>
              <p:cNvGrpSpPr/>
              <p:nvPr/>
            </p:nvGrpSpPr>
            <p:grpSpPr>
              <a:xfrm>
                <a:off x="3254400" y="2644920"/>
                <a:ext cx="914400" cy="1203480"/>
                <a:chOff x="3254400" y="2644920"/>
                <a:chExt cx="914400" cy="1203480"/>
              </a:xfrm>
            </p:grpSpPr>
            <p:sp>
              <p:nvSpPr>
                <p:cNvPr id="205" name="Rectangle 8"/>
                <p:cNvSpPr/>
                <p:nvPr/>
              </p:nvSpPr>
              <p:spPr>
                <a:xfrm>
                  <a:off x="3305880" y="2644920"/>
                  <a:ext cx="808560" cy="120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c82e32"/>
                      </a:solidFill>
                      <a:latin typeface="Arial"/>
                    </a:rPr>
                    <a:t>[A]</a:t>
                  </a:r>
                  <a:r>
                    <a:rPr b="0" i="1" lang="en-US" sz="3200" spc="-1" strike="noStrike" baseline="-25000">
                      <a:solidFill>
                        <a:srgbClr val="c82e32"/>
                      </a:solidFill>
                      <a:latin typeface="Arial"/>
                    </a:rPr>
                    <a:t>t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c82e32"/>
                      </a:solidFill>
                      <a:latin typeface="Arial"/>
                    </a:rPr>
                    <a:t>[A]</a:t>
                  </a:r>
                  <a:r>
                    <a:rPr b="0" lang="en-US" sz="3200" spc="-1" strike="noStrike" baseline="-25000">
                      <a:solidFill>
                        <a:srgbClr val="c82e32"/>
                      </a:solidFill>
                      <a:latin typeface="Arial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9"/>
                <p:cNvSpPr/>
                <p:nvPr/>
              </p:nvSpPr>
              <p:spPr>
                <a:xfrm>
                  <a:off x="3254400" y="3228840"/>
                  <a:ext cx="91440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7" name="Rectangle 10"/>
            <p:cNvSpPr/>
            <p:nvPr/>
          </p:nvSpPr>
          <p:spPr>
            <a:xfrm>
              <a:off x="4344120" y="2916360"/>
              <a:ext cx="119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=  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11"/>
          <p:cNvSpPr/>
          <p:nvPr/>
        </p:nvSpPr>
        <p:spPr>
          <a:xfrm>
            <a:off x="1691640" y="3840120"/>
            <a:ext cx="3787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ln [A]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ln [A]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3200400" y="4648320"/>
            <a:ext cx="446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ln [A]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 + ln [A]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153720" y="525780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which is in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3700440" y="5364000"/>
            <a:ext cx="33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197d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    =   </a:t>
            </a:r>
            <a:r>
              <a:rPr b="0" i="1" lang="en-US" sz="3200" spc="-1" strike="noStrike">
                <a:solidFill>
                  <a:srgbClr val="00197d"/>
                </a:solidFill>
                <a:latin typeface="Arial"/>
              </a:rPr>
              <a:t>mx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 +   </a:t>
            </a:r>
            <a:r>
              <a:rPr b="0" i="1" lang="en-US" sz="3200" spc="-1" strike="noStrike">
                <a:solidFill>
                  <a:srgbClr val="00197d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irst-Order Proces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 if a reaction is first-order, a plot of ln [A] vs.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will yield a straight line, and the slope of the line will be -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2767680" y="1835280"/>
            <a:ext cx="3606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ln [A]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-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 + ln [A]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irst-Order Proces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86200" y="198072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onsider the process in which methyl isonitrile is converted to acetonitril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7" name="Picture 5" descr="14_06"/>
          <p:cNvPicPr/>
          <p:nvPr/>
        </p:nvPicPr>
        <p:blipFill>
          <a:blip r:embed="rId1"/>
          <a:srcRect l="0" t="0" r="0" b="3701"/>
          <a:stretch/>
        </p:blipFill>
        <p:spPr>
          <a:xfrm>
            <a:off x="914400" y="1981080"/>
            <a:ext cx="2057400" cy="396252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9"/>
          <p:cNvGrpSpPr/>
          <p:nvPr/>
        </p:nvGrpSpPr>
        <p:grpSpPr>
          <a:xfrm>
            <a:off x="3209400" y="3962520"/>
            <a:ext cx="4647240" cy="648720"/>
            <a:chOff x="3209400" y="3962520"/>
            <a:chExt cx="4647240" cy="648720"/>
          </a:xfrm>
        </p:grpSpPr>
        <p:sp>
          <p:nvSpPr>
            <p:cNvPr id="219" name="Rectangle 6"/>
            <p:cNvSpPr/>
            <p:nvPr/>
          </p:nvSpPr>
          <p:spPr>
            <a:xfrm>
              <a:off x="3209400" y="3962520"/>
              <a:ext cx="148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CH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N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6368400" y="3962520"/>
              <a:ext cx="148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CH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C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8"/>
            <p:cNvSpPr/>
            <p:nvPr/>
          </p:nvSpPr>
          <p:spPr>
            <a:xfrm>
              <a:off x="4987800" y="4227480"/>
              <a:ext cx="1143000" cy="0"/>
            </a:xfrm>
            <a:prstGeom prst="line">
              <a:avLst/>
            </a:prstGeom>
            <a:ln w="22320">
              <a:solidFill>
                <a:srgbClr val="c82e3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irst-Order Proces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560" y="2895120"/>
            <a:ext cx="38098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data was collected for this reaction at 198.9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  <a:ea typeface="Arial"/>
              </a:rPr>
              <a:t>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4" name="Picture 5" descr="14_07a"/>
          <p:cNvPicPr/>
          <p:nvPr/>
        </p:nvPicPr>
        <p:blipFill>
          <a:blip r:embed="rId1"/>
          <a:srcRect l="0" t="0" r="0" b="11188"/>
          <a:stretch/>
        </p:blipFill>
        <p:spPr>
          <a:xfrm>
            <a:off x="4648320" y="2271600"/>
            <a:ext cx="3809880" cy="31384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6"/>
          <p:cNvGrpSpPr/>
          <p:nvPr/>
        </p:nvGrpSpPr>
        <p:grpSpPr>
          <a:xfrm>
            <a:off x="2223720" y="1523880"/>
            <a:ext cx="4647240" cy="648720"/>
            <a:chOff x="2223720" y="1523880"/>
            <a:chExt cx="4647240" cy="648720"/>
          </a:xfrm>
        </p:grpSpPr>
        <p:sp>
          <p:nvSpPr>
            <p:cNvPr id="226" name="Rectangle 7"/>
            <p:cNvSpPr/>
            <p:nvPr/>
          </p:nvSpPr>
          <p:spPr>
            <a:xfrm>
              <a:off x="2223720" y="1523880"/>
              <a:ext cx="148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CH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N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8"/>
            <p:cNvSpPr/>
            <p:nvPr/>
          </p:nvSpPr>
          <p:spPr>
            <a:xfrm>
              <a:off x="5382720" y="1523880"/>
              <a:ext cx="148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CH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C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9"/>
            <p:cNvSpPr/>
            <p:nvPr/>
          </p:nvSpPr>
          <p:spPr>
            <a:xfrm>
              <a:off x="4002120" y="1788840"/>
              <a:ext cx="1143000" cy="0"/>
            </a:xfrm>
            <a:prstGeom prst="line">
              <a:avLst/>
            </a:prstGeom>
            <a:ln w="22320">
              <a:solidFill>
                <a:srgbClr val="c82e3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irst-Order Proces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4114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n ln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plotted as a function of time, a straight line result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 process is first-order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is the negative of the slope:  5.1 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s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−1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1" name="Picture 5" descr="14_07ab"/>
          <p:cNvPicPr/>
          <p:nvPr/>
        </p:nvPicPr>
        <p:blipFill>
          <a:blip r:embed="rId1"/>
          <a:srcRect l="0" t="0" r="0" b="15427"/>
          <a:stretch/>
        </p:blipFill>
        <p:spPr>
          <a:xfrm>
            <a:off x="1001880" y="1371600"/>
            <a:ext cx="7138800" cy="2744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econd-Order Proces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milarly, integrating the rate law for a process that is second-order in reactant A, we ge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34" name="Group 11"/>
          <p:cNvGrpSpPr/>
          <p:nvPr/>
        </p:nvGrpSpPr>
        <p:grpSpPr>
          <a:xfrm>
            <a:off x="914400" y="3733920"/>
            <a:ext cx="3147480" cy="1136160"/>
            <a:chOff x="914400" y="3733920"/>
            <a:chExt cx="3147480" cy="1136160"/>
          </a:xfrm>
        </p:grpSpPr>
        <p:grpSp>
          <p:nvGrpSpPr>
            <p:cNvPr id="235" name="Group 6"/>
            <p:cNvGrpSpPr/>
            <p:nvPr/>
          </p:nvGrpSpPr>
          <p:grpSpPr>
            <a:xfrm>
              <a:off x="914400" y="3733920"/>
              <a:ext cx="769680" cy="1136160"/>
              <a:chOff x="914400" y="3733920"/>
              <a:chExt cx="769680" cy="1136160"/>
            </a:xfrm>
          </p:grpSpPr>
          <p:sp>
            <p:nvSpPr>
              <p:cNvPr id="236" name="Rectangle 4"/>
              <p:cNvSpPr/>
              <p:nvPr/>
            </p:nvSpPr>
            <p:spPr>
              <a:xfrm>
                <a:off x="941040" y="3733920"/>
                <a:ext cx="74304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i="1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5"/>
              <p:cNvSpPr/>
              <p:nvPr/>
            </p:nvSpPr>
            <p:spPr>
              <a:xfrm>
                <a:off x="914400" y="4267080"/>
                <a:ext cx="76176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Rectangle 7"/>
            <p:cNvSpPr/>
            <p:nvPr/>
          </p:nvSpPr>
          <p:spPr>
            <a:xfrm>
              <a:off x="1829880" y="3983040"/>
              <a:ext cx="131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=  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kt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8"/>
            <p:cNvGrpSpPr/>
            <p:nvPr/>
          </p:nvGrpSpPr>
          <p:grpSpPr>
            <a:xfrm>
              <a:off x="3253320" y="3733920"/>
              <a:ext cx="808560" cy="1136160"/>
              <a:chOff x="3253320" y="3733920"/>
              <a:chExt cx="808560" cy="113616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3253320" y="3733920"/>
                <a:ext cx="80856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3259080" y="4267080"/>
                <a:ext cx="76212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Rectangle 12"/>
          <p:cNvSpPr/>
          <p:nvPr/>
        </p:nvSpPr>
        <p:spPr>
          <a:xfrm>
            <a:off x="4618080" y="4602240"/>
            <a:ext cx="29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lso in th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1296720" y="5029200"/>
            <a:ext cx="24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197d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   =  mx + </a:t>
            </a:r>
            <a:r>
              <a:rPr b="0" i="1" lang="en-US" sz="3200" spc="-1" strike="noStrike">
                <a:solidFill>
                  <a:srgbClr val="00197d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econd-Order Proces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o if a process is second-order in A, a plot of     vs.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ill yield a straight line, and the slope of that line is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46" name="Group 4"/>
          <p:cNvGrpSpPr/>
          <p:nvPr/>
        </p:nvGrpSpPr>
        <p:grpSpPr>
          <a:xfrm>
            <a:off x="2992320" y="1447920"/>
            <a:ext cx="3147480" cy="1136160"/>
            <a:chOff x="2992320" y="1447920"/>
            <a:chExt cx="3147480" cy="1136160"/>
          </a:xfrm>
        </p:grpSpPr>
        <p:grpSp>
          <p:nvGrpSpPr>
            <p:cNvPr id="247" name="Group 5"/>
            <p:cNvGrpSpPr/>
            <p:nvPr/>
          </p:nvGrpSpPr>
          <p:grpSpPr>
            <a:xfrm>
              <a:off x="2992320" y="1447920"/>
              <a:ext cx="769680" cy="1136160"/>
              <a:chOff x="2992320" y="1447920"/>
              <a:chExt cx="769680" cy="1136160"/>
            </a:xfrm>
          </p:grpSpPr>
          <p:sp>
            <p:nvSpPr>
              <p:cNvPr id="248" name="Rectangle 6"/>
              <p:cNvSpPr/>
              <p:nvPr/>
            </p:nvSpPr>
            <p:spPr>
              <a:xfrm>
                <a:off x="3018960" y="1447920"/>
                <a:ext cx="74304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i="1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7"/>
              <p:cNvSpPr/>
              <p:nvPr/>
            </p:nvSpPr>
            <p:spPr>
              <a:xfrm>
                <a:off x="2992320" y="1981080"/>
                <a:ext cx="76176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Rectangle 8"/>
            <p:cNvSpPr/>
            <p:nvPr/>
          </p:nvSpPr>
          <p:spPr>
            <a:xfrm>
              <a:off x="3907800" y="1697040"/>
              <a:ext cx="131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=  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kt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Group 9"/>
            <p:cNvGrpSpPr/>
            <p:nvPr/>
          </p:nvGrpSpPr>
          <p:grpSpPr>
            <a:xfrm>
              <a:off x="5331240" y="1447920"/>
              <a:ext cx="808560" cy="1136160"/>
              <a:chOff x="5331240" y="1447920"/>
              <a:chExt cx="808560" cy="1136160"/>
            </a:xfrm>
          </p:grpSpPr>
          <p:sp>
            <p:nvSpPr>
              <p:cNvPr id="252" name="Rectangle 10"/>
              <p:cNvSpPr/>
              <p:nvPr/>
            </p:nvSpPr>
            <p:spPr>
              <a:xfrm>
                <a:off x="5331240" y="1447920"/>
                <a:ext cx="80856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11"/>
              <p:cNvSpPr/>
              <p:nvPr/>
            </p:nvSpPr>
            <p:spPr>
              <a:xfrm>
                <a:off x="5337000" y="1981080"/>
                <a:ext cx="76212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Group 14"/>
          <p:cNvGrpSpPr/>
          <p:nvPr/>
        </p:nvGrpSpPr>
        <p:grpSpPr>
          <a:xfrm>
            <a:off x="2262240" y="3108240"/>
            <a:ext cx="497880" cy="642600"/>
            <a:chOff x="2262240" y="3108240"/>
            <a:chExt cx="497880" cy="642600"/>
          </a:xfrm>
        </p:grpSpPr>
        <p:sp>
          <p:nvSpPr>
            <p:cNvPr id="255" name="Text Box 12"/>
            <p:cNvSpPr/>
            <p:nvPr/>
          </p:nvSpPr>
          <p:spPr>
            <a:xfrm>
              <a:off x="2262240" y="3108240"/>
              <a:ext cx="49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82e32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82e32"/>
                  </a:solidFill>
                  <a:latin typeface="Arial"/>
                </a:rPr>
                <a:t>[A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3"/>
            <p:cNvSpPr/>
            <p:nvPr/>
          </p:nvSpPr>
          <p:spPr>
            <a:xfrm>
              <a:off x="2344680" y="3424320"/>
              <a:ext cx="358560" cy="0"/>
            </a:xfrm>
            <a:prstGeom prst="line">
              <a:avLst/>
            </a:prstGeom>
            <a:ln w="255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ctors That Affect Reaction Rat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ysical State of the Reactant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order to react, molecules must come in contact with each oth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more homogeneous the mixture of reactants, the faster the molecules can reac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econd-Order Proces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52280" y="1295280"/>
            <a:ext cx="8763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decomposition of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t 300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  <a:ea typeface="Arial"/>
              </a:rPr>
              <a:t>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 is described by the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9"/>
          <p:cNvGrpSpPr/>
          <p:nvPr/>
        </p:nvGrpSpPr>
        <p:grpSpPr>
          <a:xfrm>
            <a:off x="2403720" y="2133720"/>
            <a:ext cx="6240240" cy="579600"/>
            <a:chOff x="2403720" y="2133720"/>
            <a:chExt cx="6240240" cy="579600"/>
          </a:xfrm>
        </p:grpSpPr>
        <p:sp>
          <p:nvSpPr>
            <p:cNvPr id="260" name="Rectangle 5"/>
            <p:cNvSpPr/>
            <p:nvPr/>
          </p:nvSpPr>
          <p:spPr>
            <a:xfrm>
              <a:off x="2403720" y="2133720"/>
              <a:ext cx="129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NO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6"/>
            <p:cNvSpPr/>
            <p:nvPr/>
          </p:nvSpPr>
          <p:spPr>
            <a:xfrm>
              <a:off x="4124880" y="2394000"/>
              <a:ext cx="1196280" cy="0"/>
            </a:xfrm>
            <a:prstGeom prst="line">
              <a:avLst/>
            </a:prstGeom>
            <a:ln w="22320">
              <a:solidFill>
                <a:srgbClr val="c82e3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5694840" y="2133720"/>
              <a:ext cx="2949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NO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     O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10"/>
          <p:cNvSpPr/>
          <p:nvPr/>
        </p:nvSpPr>
        <p:spPr>
          <a:xfrm>
            <a:off x="149040" y="2743200"/>
            <a:ext cx="56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nd yields data comparable to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28600" y="3809880"/>
          <a:ext cx="2209680" cy="2287800"/>
        </p:xfrm>
        <a:graphic>
          <a:graphicData uri="http://schemas.openxmlformats.org/drawingml/2006/table">
            <a:tbl>
              <a:tblPr/>
              <a:tblGrid>
                <a:gridCol w="1066680"/>
                <a:gridCol w="11430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NO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5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6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4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3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3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5" name="Group 128"/>
          <p:cNvGrpSpPr/>
          <p:nvPr/>
        </p:nvGrpSpPr>
        <p:grpSpPr>
          <a:xfrm>
            <a:off x="7261200" y="2079720"/>
            <a:ext cx="358560" cy="642600"/>
            <a:chOff x="7261200" y="2079720"/>
            <a:chExt cx="358560" cy="642600"/>
          </a:xfrm>
        </p:grpSpPr>
        <p:sp>
          <p:nvSpPr>
            <p:cNvPr id="266" name="Text Box 129"/>
            <p:cNvSpPr/>
            <p:nvPr/>
          </p:nvSpPr>
          <p:spPr>
            <a:xfrm>
              <a:off x="7274160" y="2079720"/>
              <a:ext cx="30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82e32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82e32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30"/>
            <p:cNvSpPr/>
            <p:nvPr/>
          </p:nvSpPr>
          <p:spPr>
            <a:xfrm>
              <a:off x="7261200" y="2395440"/>
              <a:ext cx="358560" cy="0"/>
            </a:xfrm>
            <a:prstGeom prst="line">
              <a:avLst/>
            </a:prstGeom>
            <a:ln w="255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econd-Order Proces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52280" y="1295280"/>
            <a:ext cx="4953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lotting ln [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vs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yields the graph at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80880" y="4038480"/>
          <a:ext cx="3124440" cy="2486160"/>
        </p:xfrm>
        <a:graphic>
          <a:graphicData uri="http://schemas.openxmlformats.org/drawingml/2006/table">
            <a:tbl>
              <a:tblPr/>
              <a:tblGrid>
                <a:gridCol w="990720"/>
                <a:gridCol w="1143000"/>
                <a:gridCol w="99072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NO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n [NO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  <a:ea typeface="Arial"/>
                        </a:rPr>
                        <a:t>−</a:t>
                      </a: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4.6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5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  <a:ea typeface="Arial"/>
                        </a:rPr>
                        <a:t>−</a:t>
                      </a: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4.8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6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  <a:ea typeface="Arial"/>
                        </a:rPr>
                        <a:t>−</a:t>
                      </a: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5.0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4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  <a:ea typeface="Arial"/>
                        </a:rPr>
                        <a:t>−</a:t>
                      </a: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5.3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3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3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  <a:ea typeface="Arial"/>
                        </a:rPr>
                        <a:t>−</a:t>
                      </a: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5.5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1" name="Picture 81" descr="14_08a"/>
          <p:cNvPicPr/>
          <p:nvPr/>
        </p:nvPicPr>
        <p:blipFill>
          <a:blip r:embed="rId1"/>
          <a:srcRect l="0" t="0" r="0" b="14040"/>
          <a:stretch/>
        </p:blipFill>
        <p:spPr>
          <a:xfrm>
            <a:off x="5181480" y="1371600"/>
            <a:ext cx="3505320" cy="29527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88"/>
          <p:cNvSpPr/>
          <p:nvPr/>
        </p:nvSpPr>
        <p:spPr>
          <a:xfrm>
            <a:off x="152280" y="2286000"/>
            <a:ext cx="476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plot 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 straight line, so the process 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irst-order in [A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econd-Order Proces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533412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Graphing ln        vs.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however, gives this p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28600" y="3886200"/>
          <a:ext cx="3124080" cy="2666880"/>
        </p:xfrm>
        <a:graphic>
          <a:graphicData uri="http://schemas.openxmlformats.org/drawingml/2006/table">
            <a:tbl>
              <a:tblPr/>
              <a:tblGrid>
                <a:gridCol w="990720"/>
                <a:gridCol w="1218960"/>
                <a:gridCol w="91440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NO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[NO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5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6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4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3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3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6" name="Picture 35" descr="14_08b"/>
          <p:cNvPicPr/>
          <p:nvPr/>
        </p:nvPicPr>
        <p:blipFill>
          <a:blip r:embed="rId1"/>
          <a:srcRect l="0" t="0" r="0" b="12955"/>
          <a:stretch/>
        </p:blipFill>
        <p:spPr>
          <a:xfrm>
            <a:off x="685800" y="1295280"/>
            <a:ext cx="2971800" cy="25336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7"/>
          <p:cNvSpPr/>
          <p:nvPr/>
        </p:nvSpPr>
        <p:spPr>
          <a:xfrm>
            <a:off x="5334120" y="3276720"/>
            <a:ext cx="350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ecause th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 straight line, the process is second-order in [A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48"/>
          <p:cNvGrpSpPr/>
          <p:nvPr/>
        </p:nvGrpSpPr>
        <p:grpSpPr>
          <a:xfrm>
            <a:off x="7627320" y="1219320"/>
            <a:ext cx="749160" cy="680040"/>
            <a:chOff x="7627320" y="1219320"/>
            <a:chExt cx="749160" cy="680040"/>
          </a:xfrm>
        </p:grpSpPr>
        <p:sp>
          <p:nvSpPr>
            <p:cNvPr id="279" name="Text Box 46"/>
            <p:cNvSpPr/>
            <p:nvPr/>
          </p:nvSpPr>
          <p:spPr>
            <a:xfrm>
              <a:off x="7627320" y="1219320"/>
              <a:ext cx="7491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82e32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82e32"/>
                  </a:solidFill>
                  <a:latin typeface="Arial"/>
                </a:rPr>
                <a:t>[NO</a:t>
              </a:r>
              <a:r>
                <a:rPr b="1" lang="en-US" sz="1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c82e32"/>
                  </a:solidFill>
                  <a:latin typeface="Arial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47"/>
            <p:cNvSpPr/>
            <p:nvPr/>
          </p:nvSpPr>
          <p:spPr>
            <a:xfrm>
              <a:off x="7718400" y="1535040"/>
              <a:ext cx="601920" cy="0"/>
            </a:xfrm>
            <a:prstGeom prst="line">
              <a:avLst/>
            </a:prstGeom>
            <a:ln w="255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Half-Lif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alf-life is defined as the time required for one-half of a reactant to reac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ecause [A] at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1/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one-half of the original [A],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A]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0.5 [A]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83" name="Picture 5" descr="14_09"/>
          <p:cNvPicPr/>
          <p:nvPr/>
        </p:nvPicPr>
        <p:blipFill>
          <a:blip r:embed="rId1"/>
          <a:srcRect l="0" t="0" r="0" b="4080"/>
          <a:stretch/>
        </p:blipFill>
        <p:spPr>
          <a:xfrm>
            <a:off x="174600" y="2286000"/>
            <a:ext cx="4168800" cy="365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Half-Lif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r a first-order process, this becom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86" name="Group 10"/>
          <p:cNvGrpSpPr/>
          <p:nvPr/>
        </p:nvGrpSpPr>
        <p:grpSpPr>
          <a:xfrm>
            <a:off x="3173040" y="2438280"/>
            <a:ext cx="3342960" cy="1065240"/>
            <a:chOff x="3173040" y="2438280"/>
            <a:chExt cx="3342960" cy="1065240"/>
          </a:xfrm>
        </p:grpSpPr>
        <p:grpSp>
          <p:nvGrpSpPr>
            <p:cNvPr id="287" name="Group 8"/>
            <p:cNvGrpSpPr/>
            <p:nvPr/>
          </p:nvGrpSpPr>
          <p:grpSpPr>
            <a:xfrm>
              <a:off x="3173040" y="2438280"/>
              <a:ext cx="1960920" cy="1065240"/>
              <a:chOff x="3173040" y="2438280"/>
              <a:chExt cx="1960920" cy="1065240"/>
            </a:xfrm>
          </p:grpSpPr>
          <p:grpSp>
            <p:nvGrpSpPr>
              <p:cNvPr id="288" name="Group 7"/>
              <p:cNvGrpSpPr/>
              <p:nvPr/>
            </p:nvGrpSpPr>
            <p:grpSpPr>
              <a:xfrm>
                <a:off x="3762360" y="2438280"/>
                <a:ext cx="1371600" cy="1065240"/>
                <a:chOff x="3762360" y="2438280"/>
                <a:chExt cx="1371600" cy="1065240"/>
              </a:xfrm>
            </p:grpSpPr>
            <p:sp>
              <p:nvSpPr>
                <p:cNvPr id="289" name="Rectangle 4"/>
                <p:cNvSpPr/>
                <p:nvPr/>
              </p:nvSpPr>
              <p:spPr>
                <a:xfrm>
                  <a:off x="3809880" y="2438280"/>
                  <a:ext cx="13240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0.5 [A]</a:t>
                  </a:r>
                  <a:r>
                    <a:rPr b="0" lang="en-US" sz="2800" spc="-1" strike="noStrike" baseline="-25000">
                      <a:solidFill>
                        <a:srgbClr val="c82e32"/>
                      </a:solidFill>
                      <a:latin typeface="Arial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[A]</a:t>
                  </a:r>
                  <a:r>
                    <a:rPr b="0" lang="en-US" sz="2800" spc="-1" strike="noStrike" baseline="-25000">
                      <a:solidFill>
                        <a:srgbClr val="c82e32"/>
                      </a:solidFill>
                      <a:latin typeface="Arial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5"/>
                <p:cNvSpPr/>
                <p:nvPr/>
              </p:nvSpPr>
              <p:spPr>
                <a:xfrm>
                  <a:off x="3762360" y="2962080"/>
                  <a:ext cx="129528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Rectangle 6"/>
              <p:cNvSpPr/>
              <p:nvPr/>
            </p:nvSpPr>
            <p:spPr>
              <a:xfrm>
                <a:off x="3173040" y="2679480"/>
                <a:ext cx="45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l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Rectangle 9"/>
            <p:cNvSpPr/>
            <p:nvPr/>
          </p:nvSpPr>
          <p:spPr>
            <a:xfrm>
              <a:off x="5257800" y="2687400"/>
              <a:ext cx="125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= 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kt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1/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Rectangle 11"/>
          <p:cNvSpPr/>
          <p:nvPr/>
        </p:nvSpPr>
        <p:spPr>
          <a:xfrm>
            <a:off x="4303080" y="3524400"/>
            <a:ext cx="219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ln 0.5 =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t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4087080" y="4273560"/>
            <a:ext cx="242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0.693 =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−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t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7"/>
          <p:cNvGrpSpPr/>
          <p:nvPr/>
        </p:nvGrpSpPr>
        <p:grpSpPr>
          <a:xfrm>
            <a:off x="4132440" y="4876920"/>
            <a:ext cx="2022480" cy="947160"/>
            <a:chOff x="4132440" y="4876920"/>
            <a:chExt cx="2022480" cy="947160"/>
          </a:xfrm>
        </p:grpSpPr>
        <p:sp>
          <p:nvSpPr>
            <p:cNvPr id="296" name="Rectangle 13"/>
            <p:cNvSpPr/>
            <p:nvPr/>
          </p:nvSpPr>
          <p:spPr>
            <a:xfrm>
              <a:off x="5282280" y="5089680"/>
              <a:ext cx="872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= 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t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1/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Group 16"/>
            <p:cNvGrpSpPr/>
            <p:nvPr/>
          </p:nvGrpSpPr>
          <p:grpSpPr>
            <a:xfrm>
              <a:off x="4132440" y="4876920"/>
              <a:ext cx="1084320" cy="947160"/>
              <a:chOff x="4132440" y="4876920"/>
              <a:chExt cx="1084320" cy="947160"/>
            </a:xfrm>
          </p:grpSpPr>
          <p:sp>
            <p:nvSpPr>
              <p:cNvPr id="298" name="Rectangle 14"/>
              <p:cNvSpPr/>
              <p:nvPr/>
            </p:nvSpPr>
            <p:spPr>
              <a:xfrm>
                <a:off x="4144320" y="4876920"/>
                <a:ext cx="1072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0.69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15"/>
              <p:cNvSpPr/>
              <p:nvPr/>
            </p:nvSpPr>
            <p:spPr>
              <a:xfrm>
                <a:off x="4132440" y="5386320"/>
                <a:ext cx="106668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Rectangle 18"/>
          <p:cNvSpPr/>
          <p:nvPr/>
        </p:nvSpPr>
        <p:spPr>
          <a:xfrm>
            <a:off x="152280" y="5442120"/>
            <a:ext cx="38102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NOTE: For a first-order process, then, the half-life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does not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depend on [A]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Half-Lif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r a second-order process, 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303" name="Group 11"/>
          <p:cNvGrpSpPr/>
          <p:nvPr/>
        </p:nvGrpSpPr>
        <p:grpSpPr>
          <a:xfrm>
            <a:off x="2362320" y="2133720"/>
            <a:ext cx="3722040" cy="1006200"/>
            <a:chOff x="2362320" y="2133720"/>
            <a:chExt cx="3722040" cy="1006200"/>
          </a:xfrm>
        </p:grpSpPr>
        <p:grpSp>
          <p:nvGrpSpPr>
            <p:cNvPr id="304" name="Group 6"/>
            <p:cNvGrpSpPr/>
            <p:nvPr/>
          </p:nvGrpSpPr>
          <p:grpSpPr>
            <a:xfrm>
              <a:off x="2362320" y="2133720"/>
              <a:ext cx="1371600" cy="1006200"/>
              <a:chOff x="2362320" y="2133720"/>
              <a:chExt cx="1371600" cy="1006200"/>
            </a:xfrm>
          </p:grpSpPr>
          <p:sp>
            <p:nvSpPr>
              <p:cNvPr id="305" name="Rectangle 4"/>
              <p:cNvSpPr/>
              <p:nvPr/>
            </p:nvSpPr>
            <p:spPr>
              <a:xfrm>
                <a:off x="2406600" y="2133720"/>
                <a:ext cx="132408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0.5 [A]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5"/>
              <p:cNvSpPr/>
              <p:nvPr/>
            </p:nvSpPr>
            <p:spPr>
              <a:xfrm>
                <a:off x="2362320" y="2600640"/>
                <a:ext cx="137160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Rectangle 7"/>
            <p:cNvSpPr/>
            <p:nvPr/>
          </p:nvSpPr>
          <p:spPr>
            <a:xfrm>
              <a:off x="3912120" y="2347920"/>
              <a:ext cx="1456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= 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kt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1/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8"/>
            <p:cNvGrpSpPr/>
            <p:nvPr/>
          </p:nvGrpSpPr>
          <p:grpSpPr>
            <a:xfrm>
              <a:off x="5354640" y="2133720"/>
              <a:ext cx="729720" cy="1006200"/>
              <a:chOff x="5354640" y="2133720"/>
              <a:chExt cx="729720" cy="1006200"/>
            </a:xfrm>
          </p:grpSpPr>
          <p:sp>
            <p:nvSpPr>
              <p:cNvPr id="309" name="Rectangle 9"/>
              <p:cNvSpPr/>
              <p:nvPr/>
            </p:nvSpPr>
            <p:spPr>
              <a:xfrm>
                <a:off x="5354640" y="2133720"/>
                <a:ext cx="72972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10"/>
              <p:cNvSpPr/>
              <p:nvPr/>
            </p:nvSpPr>
            <p:spPr>
              <a:xfrm>
                <a:off x="5459040" y="2600640"/>
                <a:ext cx="50796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Group 20"/>
          <p:cNvGrpSpPr/>
          <p:nvPr/>
        </p:nvGrpSpPr>
        <p:grpSpPr>
          <a:xfrm>
            <a:off x="2971800" y="3352680"/>
            <a:ext cx="3112560" cy="1006200"/>
            <a:chOff x="2971800" y="3352680"/>
            <a:chExt cx="3112560" cy="1006200"/>
          </a:xfrm>
        </p:grpSpPr>
        <p:grpSp>
          <p:nvGrpSpPr>
            <p:cNvPr id="312" name="Group 13"/>
            <p:cNvGrpSpPr/>
            <p:nvPr/>
          </p:nvGrpSpPr>
          <p:grpSpPr>
            <a:xfrm>
              <a:off x="2971800" y="3352680"/>
              <a:ext cx="762480" cy="1006200"/>
              <a:chOff x="2971800" y="3352680"/>
              <a:chExt cx="762480" cy="1006200"/>
            </a:xfrm>
          </p:grpSpPr>
          <p:sp>
            <p:nvSpPr>
              <p:cNvPr id="313" name="Rectangle 14"/>
              <p:cNvSpPr/>
              <p:nvPr/>
            </p:nvSpPr>
            <p:spPr>
              <a:xfrm>
                <a:off x="2997000" y="3352680"/>
                <a:ext cx="72972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5"/>
              <p:cNvSpPr/>
              <p:nvPr/>
            </p:nvSpPr>
            <p:spPr>
              <a:xfrm>
                <a:off x="2971800" y="3819600"/>
                <a:ext cx="76248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Rectangle 16"/>
            <p:cNvSpPr/>
            <p:nvPr/>
          </p:nvSpPr>
          <p:spPr>
            <a:xfrm>
              <a:off x="3912120" y="3566880"/>
              <a:ext cx="1456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= 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kt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1/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17"/>
            <p:cNvGrpSpPr/>
            <p:nvPr/>
          </p:nvGrpSpPr>
          <p:grpSpPr>
            <a:xfrm>
              <a:off x="5354640" y="3352680"/>
              <a:ext cx="729720" cy="1006200"/>
              <a:chOff x="5354640" y="3352680"/>
              <a:chExt cx="729720" cy="1006200"/>
            </a:xfrm>
          </p:grpSpPr>
          <p:sp>
            <p:nvSpPr>
              <p:cNvPr id="317" name="Rectangle 18"/>
              <p:cNvSpPr/>
              <p:nvPr/>
            </p:nvSpPr>
            <p:spPr>
              <a:xfrm>
                <a:off x="5354640" y="3352680"/>
                <a:ext cx="72972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19"/>
              <p:cNvSpPr/>
              <p:nvPr/>
            </p:nvSpPr>
            <p:spPr>
              <a:xfrm>
                <a:off x="5459040" y="3819600"/>
                <a:ext cx="50796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9" name="Group 30"/>
          <p:cNvGrpSpPr/>
          <p:nvPr/>
        </p:nvGrpSpPr>
        <p:grpSpPr>
          <a:xfrm>
            <a:off x="1632600" y="4419720"/>
            <a:ext cx="3330720" cy="1088640"/>
            <a:chOff x="1632600" y="4419720"/>
            <a:chExt cx="3330720" cy="1088640"/>
          </a:xfrm>
        </p:grpSpPr>
        <p:grpSp>
          <p:nvGrpSpPr>
            <p:cNvPr id="320" name="Group 22"/>
            <p:cNvGrpSpPr/>
            <p:nvPr/>
          </p:nvGrpSpPr>
          <p:grpSpPr>
            <a:xfrm>
              <a:off x="1632600" y="4502160"/>
              <a:ext cx="982800" cy="1006200"/>
              <a:chOff x="1632600" y="4502160"/>
              <a:chExt cx="982800" cy="1006200"/>
            </a:xfrm>
          </p:grpSpPr>
          <p:sp>
            <p:nvSpPr>
              <p:cNvPr id="321" name="Rectangle 23"/>
              <p:cNvSpPr/>
              <p:nvPr/>
            </p:nvSpPr>
            <p:spPr>
              <a:xfrm>
                <a:off x="1632600" y="4502160"/>
                <a:ext cx="98280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2 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  <a:ea typeface="Arial"/>
                  </a:rPr>
                  <a:t>−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 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24"/>
              <p:cNvSpPr/>
              <p:nvPr/>
            </p:nvSpPr>
            <p:spPr>
              <a:xfrm>
                <a:off x="1733400" y="4962240"/>
                <a:ext cx="76284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Rectangle 25"/>
            <p:cNvSpPr/>
            <p:nvPr/>
          </p:nvSpPr>
          <p:spPr>
            <a:xfrm>
              <a:off x="3912480" y="4633920"/>
              <a:ext cx="1050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= 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kt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1/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26"/>
            <p:cNvGrpSpPr/>
            <p:nvPr/>
          </p:nvGrpSpPr>
          <p:grpSpPr>
            <a:xfrm>
              <a:off x="3059280" y="4419720"/>
              <a:ext cx="729720" cy="1006200"/>
              <a:chOff x="3059280" y="4419720"/>
              <a:chExt cx="729720" cy="1006200"/>
            </a:xfrm>
          </p:grpSpPr>
          <p:sp>
            <p:nvSpPr>
              <p:cNvPr id="325" name="Rectangle 27"/>
              <p:cNvSpPr/>
              <p:nvPr/>
            </p:nvSpPr>
            <p:spPr>
              <a:xfrm>
                <a:off x="3059280" y="4419720"/>
                <a:ext cx="72972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8"/>
              <p:cNvSpPr/>
              <p:nvPr/>
            </p:nvSpPr>
            <p:spPr>
              <a:xfrm>
                <a:off x="3163680" y="4886640"/>
                <a:ext cx="50796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Rectangle 29"/>
            <p:cNvSpPr/>
            <p:nvPr/>
          </p:nvSpPr>
          <p:spPr>
            <a:xfrm>
              <a:off x="2669040" y="463392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40"/>
          <p:cNvGrpSpPr/>
          <p:nvPr/>
        </p:nvGrpSpPr>
        <p:grpSpPr>
          <a:xfrm>
            <a:off x="2970360" y="5410080"/>
            <a:ext cx="1814760" cy="1006200"/>
            <a:chOff x="2970360" y="5410080"/>
            <a:chExt cx="1814760" cy="1006200"/>
          </a:xfrm>
        </p:grpSpPr>
        <p:sp>
          <p:nvSpPr>
            <p:cNvPr id="329" name="Rectangle 35"/>
            <p:cNvSpPr/>
            <p:nvPr/>
          </p:nvSpPr>
          <p:spPr>
            <a:xfrm>
              <a:off x="3912480" y="5624280"/>
              <a:ext cx="872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= 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t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1/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Group 36"/>
            <p:cNvGrpSpPr/>
            <p:nvPr/>
          </p:nvGrpSpPr>
          <p:grpSpPr>
            <a:xfrm>
              <a:off x="2970360" y="5410080"/>
              <a:ext cx="907920" cy="1006200"/>
              <a:chOff x="2970360" y="5410080"/>
              <a:chExt cx="907920" cy="1006200"/>
            </a:xfrm>
          </p:grpSpPr>
          <p:sp>
            <p:nvSpPr>
              <p:cNvPr id="331" name="Rectangle 37"/>
              <p:cNvSpPr/>
              <p:nvPr/>
            </p:nvSpPr>
            <p:spPr>
              <a:xfrm>
                <a:off x="2970360" y="5410080"/>
                <a:ext cx="90792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38"/>
              <p:cNvSpPr/>
              <p:nvPr/>
            </p:nvSpPr>
            <p:spPr>
              <a:xfrm>
                <a:off x="3163680" y="5877000"/>
                <a:ext cx="50796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emperature and Rat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Generally, as temperature increases, so does the reaction rat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is becaus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temperature depende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35" name="Picture 6" descr="14_11"/>
          <p:cNvPicPr/>
          <p:nvPr/>
        </p:nvPicPr>
        <p:blipFill>
          <a:blip r:embed="rId1"/>
          <a:srcRect l="0" t="0" r="0" b="4435"/>
          <a:stretch/>
        </p:blipFill>
        <p:spPr>
          <a:xfrm>
            <a:off x="914400" y="1403280"/>
            <a:ext cx="2833560" cy="2482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14_12"/>
          <p:cNvPicPr/>
          <p:nvPr/>
        </p:nvPicPr>
        <p:blipFill>
          <a:blip r:embed="rId2"/>
          <a:srcRect l="0" t="0" r="0" b="5398"/>
          <a:stretch/>
        </p:blipFill>
        <p:spPr>
          <a:xfrm>
            <a:off x="0" y="4027320"/>
            <a:ext cx="2819520" cy="260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llision Model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n a chemical reaction, bonds are broken and new bonds are formed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Molecules can only react if they collide with each other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llision Model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urthermore, molecules must collide with the correct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orientatio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with enough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energy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to cause bond breakage and forma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41" name="Picture 8" descr="14_13ab"/>
          <p:cNvPicPr/>
          <p:nvPr/>
        </p:nvPicPr>
        <p:blipFill>
          <a:blip r:embed="rId1"/>
          <a:srcRect l="0" t="0" r="0" b="61561"/>
          <a:stretch/>
        </p:blipFill>
        <p:spPr>
          <a:xfrm>
            <a:off x="576360" y="3962520"/>
            <a:ext cx="7991280" cy="146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ctivation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In other words, there is a minimum amount of energy required for reaction:  the </a:t>
            </a:r>
            <a:r>
              <a:rPr b="0" lang="en-US" sz="2400" spc="-1" strike="noStrike">
                <a:solidFill>
                  <a:srgbClr val="00197d"/>
                </a:solidFill>
                <a:latin typeface="Arial"/>
              </a:rPr>
              <a:t>activation energy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Just as a ball cannot get over a hill if it does not roll up the hill with enough energy, a reaction cannot occur unless the molecules possess sufficient energy to get over the activation energy barrier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44" name="Picture 7" descr="14_14"/>
          <p:cNvPicPr/>
          <p:nvPr/>
        </p:nvPicPr>
        <p:blipFill>
          <a:blip r:embed="rId1"/>
          <a:srcRect l="0" t="0" r="0" b="7779"/>
          <a:stretch/>
        </p:blipFill>
        <p:spPr>
          <a:xfrm>
            <a:off x="914400" y="4067280"/>
            <a:ext cx="6172200" cy="2635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ctors That Affect Reaction Rat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oncentration of Reactant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the concentration of reactants increases, so does the likelihood that reactant molecules will collid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9" name="Picture 6" descr="14_02"/>
          <p:cNvPicPr/>
          <p:nvPr/>
        </p:nvPicPr>
        <p:blipFill>
          <a:blip r:embed="rId1"/>
          <a:srcRect l="0" t="0" r="0" b="11512"/>
          <a:stretch/>
        </p:blipFill>
        <p:spPr>
          <a:xfrm>
            <a:off x="2741760" y="3967200"/>
            <a:ext cx="3665520" cy="228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9" descr="14_15"/>
          <p:cNvPicPr/>
          <p:nvPr/>
        </p:nvPicPr>
        <p:blipFill>
          <a:blip r:embed="rId1"/>
          <a:srcRect l="0" t="0" r="0" b="4220"/>
          <a:stretch/>
        </p:blipFill>
        <p:spPr>
          <a:xfrm>
            <a:off x="3276720" y="1523880"/>
            <a:ext cx="5638680" cy="42087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Coordinate Diagram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helpful to visualize energy changes throughout a process on a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reaction coordinate diagram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like this one for the rearrangement of methyl isonitril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Coordinate Diagram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419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diagram shows the energy of the reactants and products (and, therefore,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high point on the diagram is the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transition stat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0" y="41911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pecies present at the transition state is called the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activated complex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0" y="5105520"/>
            <a:ext cx="8915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energy gap between the reactants and the activated complex is the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activation energy barrier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9" descr="14_15"/>
          <p:cNvPicPr/>
          <p:nvPr/>
        </p:nvPicPr>
        <p:blipFill>
          <a:blip r:embed="rId1"/>
          <a:srcRect l="0" t="0" r="0" b="4313"/>
          <a:stretch/>
        </p:blipFill>
        <p:spPr>
          <a:xfrm>
            <a:off x="4572000" y="1295280"/>
            <a:ext cx="3962520" cy="2955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9920" y="2282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xwel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  <a:ea typeface="Arial"/>
              </a:rPr>
              <a:t>–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oltzmann Distribu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581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emperature is defined as a measure of the average kinetic energy of the molecules in a sampl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55" name="Picture 5" descr="14_16"/>
          <p:cNvPicPr/>
          <p:nvPr/>
        </p:nvPicPr>
        <p:blipFill>
          <a:blip r:embed="rId1"/>
          <a:srcRect l="0" t="0" r="0" b="4679"/>
          <a:stretch/>
        </p:blipFill>
        <p:spPr>
          <a:xfrm>
            <a:off x="228600" y="2055960"/>
            <a:ext cx="5029200" cy="286056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6"/>
          <p:cNvSpPr/>
          <p:nvPr/>
        </p:nvSpPr>
        <p:spPr>
          <a:xfrm>
            <a:off x="533520" y="51814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t any temperature there is a wide distribution of kinetic ener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9920" y="2282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xwel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  <a:ea typeface="Arial"/>
              </a:rPr>
              <a:t>–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oltzmann Distribu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25780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the temperature increases, the curve flattens and broade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us at higher temperatures, a larger population of molecules has higher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59" name="Picture 4" descr="14_16"/>
          <p:cNvPicPr/>
          <p:nvPr/>
        </p:nvPicPr>
        <p:blipFill>
          <a:blip r:embed="rId1"/>
          <a:srcRect l="0" t="0" r="0" b="4679"/>
          <a:stretch/>
        </p:blipFill>
        <p:spPr>
          <a:xfrm>
            <a:off x="228600" y="2055960"/>
            <a:ext cx="5029200" cy="2860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9920" y="2282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xwel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  <a:ea typeface="Arial"/>
              </a:rPr>
              <a:t>–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oltzmann Distribu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1638000"/>
            <a:ext cx="80010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the dotted line represents the activation energy, then as the temperature increases, so does the fraction of molecules that can overcome the activation energy barri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62" name="Picture 4" descr="14_16"/>
          <p:cNvPicPr/>
          <p:nvPr/>
        </p:nvPicPr>
        <p:blipFill>
          <a:blip r:embed="rId1"/>
          <a:srcRect l="0" t="0" r="0" b="4679"/>
          <a:stretch/>
        </p:blipFill>
        <p:spPr>
          <a:xfrm>
            <a:off x="228600" y="3657600"/>
            <a:ext cx="5029200" cy="28605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5"/>
          <p:cNvSpPr/>
          <p:nvPr/>
        </p:nvSpPr>
        <p:spPr>
          <a:xfrm>
            <a:off x="5486400" y="373392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a result, the reaction rate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9920" y="2282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xwel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  <a:ea typeface="Arial"/>
              </a:rPr>
              <a:t>–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oltzmann Distribu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0440" y="15238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fraction of molecules can be found through the expression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is the gas constant and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is the Kelvin temperatur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66" name="Picture 4" descr="14_16"/>
          <p:cNvPicPr/>
          <p:nvPr/>
        </p:nvPicPr>
        <p:blipFill>
          <a:blip r:embed="rId1"/>
          <a:srcRect l="0" t="0" r="0" b="4679"/>
          <a:stretch/>
        </p:blipFill>
        <p:spPr>
          <a:xfrm>
            <a:off x="228600" y="3844800"/>
            <a:ext cx="5029200" cy="28609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6"/>
          <p:cNvSpPr/>
          <p:nvPr/>
        </p:nvSpPr>
        <p:spPr>
          <a:xfrm>
            <a:off x="3733920" y="2316240"/>
            <a:ext cx="241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0"/>
          <p:cNvGrpSpPr/>
          <p:nvPr/>
        </p:nvGrpSpPr>
        <p:grpSpPr>
          <a:xfrm>
            <a:off x="4641120" y="2008080"/>
            <a:ext cx="465840" cy="730440"/>
            <a:chOff x="4641120" y="2008080"/>
            <a:chExt cx="465840" cy="730440"/>
          </a:xfrm>
        </p:grpSpPr>
        <p:sp>
          <p:nvSpPr>
            <p:cNvPr id="369" name="Text Box 7"/>
            <p:cNvSpPr/>
            <p:nvPr/>
          </p:nvSpPr>
          <p:spPr>
            <a:xfrm>
              <a:off x="4641120" y="2008080"/>
              <a:ext cx="4582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i="1" lang="en-US" sz="1600" spc="-1" strike="noStrike">
                  <a:solidFill>
                    <a:srgbClr val="c82e32"/>
                  </a:solidFill>
                  <a:latin typeface="Arial"/>
                </a:rPr>
                <a:t>E</a:t>
              </a:r>
              <a:r>
                <a:rPr b="0" i="1" lang="en-US" sz="1600" spc="-1" strike="noStrike" baseline="-25000">
                  <a:solidFill>
                    <a:srgbClr val="c82e32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82e32"/>
                  </a:solidFill>
                  <a:latin typeface="Arial"/>
                </a:rPr>
                <a:t>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8"/>
            <p:cNvSpPr/>
            <p:nvPr/>
          </p:nvSpPr>
          <p:spPr>
            <a:xfrm>
              <a:off x="4649760" y="2422440"/>
              <a:ext cx="457200" cy="0"/>
            </a:xfrm>
            <a:prstGeom prst="line">
              <a:avLst/>
            </a:prstGeom>
            <a:ln w="255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rrhenius Equa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91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vante Arrhenius developed a mathematical relationship between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A 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here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is the 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frequency factor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a number that represents the likelihood that collisions would occur with the proper orientation for react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5112720" y="2766960"/>
            <a:ext cx="465840" cy="730440"/>
            <a:chOff x="5112720" y="2766960"/>
            <a:chExt cx="465840" cy="730440"/>
          </a:xfrm>
        </p:grpSpPr>
        <p:sp>
          <p:nvSpPr>
            <p:cNvPr id="374" name="Text Box 5"/>
            <p:cNvSpPr/>
            <p:nvPr/>
          </p:nvSpPr>
          <p:spPr>
            <a:xfrm>
              <a:off x="5112720" y="2766960"/>
              <a:ext cx="4582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i="1" lang="en-US" sz="1600" spc="-1" strike="noStrike">
                  <a:solidFill>
                    <a:srgbClr val="c82e32"/>
                  </a:solidFill>
                  <a:latin typeface="Arial"/>
                </a:rPr>
                <a:t>E</a:t>
              </a:r>
              <a:r>
                <a:rPr b="0" i="1" lang="en-US" sz="1600" spc="-1" strike="noStrike" baseline="-25000">
                  <a:solidFill>
                    <a:srgbClr val="c82e32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82e32"/>
                  </a:solidFill>
                  <a:latin typeface="Arial"/>
                </a:rPr>
                <a:t>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6"/>
            <p:cNvSpPr/>
            <p:nvPr/>
          </p:nvSpPr>
          <p:spPr>
            <a:xfrm>
              <a:off x="5121360" y="3181320"/>
              <a:ext cx="457200" cy="0"/>
            </a:xfrm>
            <a:prstGeom prst="line">
              <a:avLst/>
            </a:prstGeom>
            <a:ln w="255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rrhenius Equa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0" y="1599840"/>
            <a:ext cx="4191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aking the natural logarithm of both sides, the equation becomes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ln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-         </a:t>
            </a: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ln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78" name="Picture 5" descr="14_17"/>
          <p:cNvPicPr/>
          <p:nvPr/>
        </p:nvPicPr>
        <p:blipFill>
          <a:blip r:embed="rId1"/>
          <a:srcRect l="0" t="0" r="0" b="5436"/>
          <a:stretch/>
        </p:blipFill>
        <p:spPr>
          <a:xfrm>
            <a:off x="0" y="1752480"/>
            <a:ext cx="4572000" cy="264816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16"/>
          <p:cNvGrpSpPr/>
          <p:nvPr/>
        </p:nvGrpSpPr>
        <p:grpSpPr>
          <a:xfrm>
            <a:off x="6934320" y="3375000"/>
            <a:ext cx="457200" cy="947160"/>
            <a:chOff x="6934320" y="3375000"/>
            <a:chExt cx="457200" cy="947160"/>
          </a:xfrm>
        </p:grpSpPr>
        <p:sp>
          <p:nvSpPr>
            <p:cNvPr id="380" name="Rectangle 7"/>
            <p:cNvSpPr/>
            <p:nvPr/>
          </p:nvSpPr>
          <p:spPr>
            <a:xfrm>
              <a:off x="6968160" y="3375000"/>
              <a:ext cx="39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8"/>
            <p:cNvSpPr/>
            <p:nvPr/>
          </p:nvSpPr>
          <p:spPr>
            <a:xfrm>
              <a:off x="6934320" y="3844800"/>
              <a:ext cx="457200" cy="0"/>
            </a:xfrm>
            <a:prstGeom prst="line">
              <a:avLst/>
            </a:prstGeom>
            <a:ln w="1908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Rectangle 11"/>
          <p:cNvSpPr/>
          <p:nvPr/>
        </p:nvSpPr>
        <p:spPr>
          <a:xfrm>
            <a:off x="4857840" y="434340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197d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   =     </a:t>
            </a:r>
            <a:r>
              <a:rPr b="0" i="1" lang="en-US" sz="2800" spc="-1" strike="noStrike">
                <a:solidFill>
                  <a:srgbClr val="00197d"/>
                </a:solidFill>
                <a:latin typeface="Arial"/>
              </a:rPr>
              <a:t>m      x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     +</a:t>
            </a:r>
            <a:r>
              <a:rPr b="0" i="1" lang="en-US" sz="2800" spc="-1" strike="noStrike">
                <a:solidFill>
                  <a:srgbClr val="00197d"/>
                </a:solidFill>
                <a:latin typeface="Arial"/>
              </a:rPr>
              <a:t>  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380880" y="4951440"/>
            <a:ext cx="7623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i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determined experimentally at several temperatures,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n be calculated from the slope of a plot of ln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vs.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5943600" y="3276720"/>
            <a:ext cx="685800" cy="1176840"/>
            <a:chOff x="5943600" y="3276720"/>
            <a:chExt cx="685800" cy="1176840"/>
          </a:xfrm>
        </p:grpSpPr>
        <p:sp>
          <p:nvSpPr>
            <p:cNvPr id="385" name="Text Box 13"/>
            <p:cNvSpPr/>
            <p:nvPr/>
          </p:nvSpPr>
          <p:spPr>
            <a:xfrm>
              <a:off x="6015960" y="3276720"/>
              <a:ext cx="531360" cy="11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E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4"/>
            <p:cNvSpPr/>
            <p:nvPr/>
          </p:nvSpPr>
          <p:spPr>
            <a:xfrm>
              <a:off x="5943600" y="3855960"/>
              <a:ext cx="685800" cy="0"/>
            </a:xfrm>
            <a:prstGeom prst="line">
              <a:avLst/>
            </a:prstGeom>
            <a:ln w="255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17"/>
          <p:cNvGrpSpPr/>
          <p:nvPr/>
        </p:nvGrpSpPr>
        <p:grpSpPr>
          <a:xfrm>
            <a:off x="5757840" y="5715000"/>
            <a:ext cx="358560" cy="642600"/>
            <a:chOff x="5757840" y="5715000"/>
            <a:chExt cx="358560" cy="642600"/>
          </a:xfrm>
        </p:grpSpPr>
        <p:sp>
          <p:nvSpPr>
            <p:cNvPr id="388" name="Text Box 18"/>
            <p:cNvSpPr/>
            <p:nvPr/>
          </p:nvSpPr>
          <p:spPr>
            <a:xfrm>
              <a:off x="5763960" y="5715000"/>
              <a:ext cx="32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82e32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82e32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9"/>
            <p:cNvSpPr/>
            <p:nvPr/>
          </p:nvSpPr>
          <p:spPr>
            <a:xfrm>
              <a:off x="5757840" y="6031080"/>
              <a:ext cx="358560" cy="0"/>
            </a:xfrm>
            <a:prstGeom prst="line">
              <a:avLst/>
            </a:prstGeom>
            <a:ln w="255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Mechanism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sequence of events that describes the actual process by which reactants become products is called the 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reaction mechanism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Mechanism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eactions may occur all at once or through several discrete step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Each of these processes is known as an 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elementary reactio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elementary proces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ctors That Affect Reaction Rat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t higher temperatures, reactant molecules have more kinetic energy, move faster, and collide more often and with greater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Mechanism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molecularity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a process tells how many molecules are involved in the proces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96" name="Picture 8" descr="14_T03"/>
          <p:cNvPicPr/>
          <p:nvPr/>
        </p:nvPicPr>
        <p:blipFill>
          <a:blip r:embed="rId1"/>
          <a:srcRect l="0" t="0" r="0" b="7688"/>
          <a:stretch/>
        </p:blipFill>
        <p:spPr>
          <a:xfrm>
            <a:off x="1333440" y="1600200"/>
            <a:ext cx="6477120" cy="228600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9"/>
          <p:cNvSpPr/>
          <p:nvPr/>
        </p:nvSpPr>
        <p:spPr>
          <a:xfrm>
            <a:off x="1447920" y="1676520"/>
            <a:ext cx="1066680" cy="228600"/>
          </a:xfrm>
          <a:prstGeom prst="rect">
            <a:avLst/>
          </a:prstGeom>
          <a:solidFill>
            <a:srgbClr val="007cb2"/>
          </a:solidFill>
          <a:ln w="9360">
            <a:solidFill>
              <a:srgbClr val="00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ultistep Mechanism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a multistep process, one of the steps will be slower than all othe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overall reaction cannot occur faster than this slowest,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rate-determining ste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00" name="Picture 5" descr="14_18"/>
          <p:cNvPicPr/>
          <p:nvPr/>
        </p:nvPicPr>
        <p:blipFill>
          <a:blip r:embed="rId1"/>
          <a:srcRect l="0" t="0" r="0" b="23032"/>
          <a:stretch/>
        </p:blipFill>
        <p:spPr>
          <a:xfrm>
            <a:off x="727200" y="4038480"/>
            <a:ext cx="7688160" cy="1827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low Initial Step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66652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rate law for this reaction is found experimentally to be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e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[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O is necessary for this reaction to occur, but th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rat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the reaction does not depend on its concentra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suggests the reaction occurs in two step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1418760" y="1614600"/>
            <a:ext cx="6288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CO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NO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C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low Initial Step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 proposed mechanism for this reaction is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tep 1: 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NO   (slow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tep 2: 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CO 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C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(fast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ntermediate is consumed in the second step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CO is not involved in the slow, rate-determining step, it does not appear in the rate law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06" name="Picture 5" descr="14_18"/>
          <p:cNvPicPr/>
          <p:nvPr/>
        </p:nvPicPr>
        <p:blipFill>
          <a:blip r:embed="rId1"/>
          <a:srcRect l="0" t="0" r="53551" b="23080"/>
          <a:stretch/>
        </p:blipFill>
        <p:spPr>
          <a:xfrm>
            <a:off x="533520" y="5105520"/>
            <a:ext cx="298116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st Initial Step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rate law for this reaction is found to b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=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O]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Br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Because termolecular processes are rare, this rate law suggests a two-step mechanism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1803600" y="1676520"/>
            <a:ext cx="55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2 NO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Br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2 NOBr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st Initial Step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 proposed mechanism i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954720" y="3314880"/>
            <a:ext cx="712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tep 2:  NOBr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NO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2 NOBr     (s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510120" y="4572000"/>
            <a:ext cx="81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tep 1 includes the forwar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everse re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12"/>
          <p:cNvGrpSpPr/>
          <p:nvPr/>
        </p:nvGrpSpPr>
        <p:grpSpPr>
          <a:xfrm>
            <a:off x="849600" y="2743200"/>
            <a:ext cx="7137360" cy="579600"/>
            <a:chOff x="849600" y="2743200"/>
            <a:chExt cx="7137360" cy="579600"/>
          </a:xfrm>
        </p:grpSpPr>
        <p:sp>
          <p:nvSpPr>
            <p:cNvPr id="415" name="Rectangle 4"/>
            <p:cNvSpPr/>
            <p:nvPr/>
          </p:nvSpPr>
          <p:spPr>
            <a:xfrm>
              <a:off x="849600" y="2743200"/>
              <a:ext cx="2913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Step 1:  NO + Br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6"/>
            <p:cNvSpPr/>
            <p:nvPr/>
          </p:nvSpPr>
          <p:spPr>
            <a:xfrm>
              <a:off x="5497200" y="2743200"/>
              <a:ext cx="2489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NOBr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    (fast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7" name="Picture 10" descr="equilibrium"/>
            <p:cNvPicPr/>
            <p:nvPr/>
          </p:nvPicPr>
          <p:blipFill>
            <a:blip r:embed="rId1"/>
            <a:stretch/>
          </p:blipFill>
          <p:spPr>
            <a:xfrm>
              <a:off x="3836880" y="2882880"/>
              <a:ext cx="158760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st Initial Step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rate of the overall reaction depends upon the rate of the slow step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rate law for that step would b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=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OBr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[NO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But how can we find [NOBr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?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st Initial Step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NOBr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can react two way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ith NO to form NOBr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y decomposition to reform NO and Br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reactants and products of the first step are in equilibrium with each other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Rate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st Initial Step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Because Rate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Rate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O] [Br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=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−1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OBr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olving for [NOBr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gives u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424" name="Group 9"/>
          <p:cNvGrpSpPr/>
          <p:nvPr/>
        </p:nvGrpSpPr>
        <p:grpSpPr>
          <a:xfrm>
            <a:off x="2351160" y="4876920"/>
            <a:ext cx="4422960" cy="1065240"/>
            <a:chOff x="2351160" y="4876920"/>
            <a:chExt cx="4422960" cy="1065240"/>
          </a:xfrm>
        </p:grpSpPr>
        <p:grpSp>
          <p:nvGrpSpPr>
            <p:cNvPr id="425" name="Group 6"/>
            <p:cNvGrpSpPr/>
            <p:nvPr/>
          </p:nvGrpSpPr>
          <p:grpSpPr>
            <a:xfrm>
              <a:off x="2351160" y="4876920"/>
              <a:ext cx="685800" cy="1065240"/>
              <a:chOff x="2351160" y="4876920"/>
              <a:chExt cx="685800" cy="1065240"/>
            </a:xfrm>
          </p:grpSpPr>
          <p:sp>
            <p:nvSpPr>
              <p:cNvPr id="426" name="Rectangle 4"/>
              <p:cNvSpPr/>
              <p:nvPr/>
            </p:nvSpPr>
            <p:spPr>
              <a:xfrm>
                <a:off x="2417040" y="4876920"/>
                <a:ext cx="593640" cy="10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  <a:ea typeface="Arial"/>
                  </a:rPr>
                  <a:t>−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5"/>
              <p:cNvSpPr/>
              <p:nvPr/>
            </p:nvSpPr>
            <p:spPr>
              <a:xfrm>
                <a:off x="2351160" y="5397480"/>
                <a:ext cx="68580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Rectangle 8"/>
            <p:cNvSpPr/>
            <p:nvPr/>
          </p:nvSpPr>
          <p:spPr>
            <a:xfrm>
              <a:off x="3042720" y="5061240"/>
              <a:ext cx="3731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[NO] [Br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] = [NOBr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st Initial Step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ubstituting this expression for [NOBr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in the rate law for the rate-determining step giv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431" name="Group 13"/>
          <p:cNvGrpSpPr/>
          <p:nvPr/>
        </p:nvGrpSpPr>
        <p:grpSpPr>
          <a:xfrm>
            <a:off x="2135160" y="3527280"/>
            <a:ext cx="4878720" cy="1065240"/>
            <a:chOff x="2135160" y="3527280"/>
            <a:chExt cx="4878720" cy="1065240"/>
          </a:xfrm>
        </p:grpSpPr>
        <p:grpSp>
          <p:nvGrpSpPr>
            <p:cNvPr id="432" name="Group 12"/>
            <p:cNvGrpSpPr/>
            <p:nvPr/>
          </p:nvGrpSpPr>
          <p:grpSpPr>
            <a:xfrm>
              <a:off x="2135160" y="3527280"/>
              <a:ext cx="2284560" cy="1065240"/>
              <a:chOff x="2135160" y="3527280"/>
              <a:chExt cx="2284560" cy="1065240"/>
            </a:xfrm>
          </p:grpSpPr>
          <p:grpSp>
            <p:nvGrpSpPr>
              <p:cNvPr id="433" name="Group 6"/>
              <p:cNvGrpSpPr/>
              <p:nvPr/>
            </p:nvGrpSpPr>
            <p:grpSpPr>
              <a:xfrm>
                <a:off x="3505320" y="3527280"/>
                <a:ext cx="914400" cy="1065240"/>
                <a:chOff x="3505320" y="3527280"/>
                <a:chExt cx="914400" cy="1065240"/>
              </a:xfrm>
            </p:grpSpPr>
            <p:sp>
              <p:nvSpPr>
                <p:cNvPr id="434" name="Rectangle 4"/>
                <p:cNvSpPr/>
                <p:nvPr/>
              </p:nvSpPr>
              <p:spPr>
                <a:xfrm>
                  <a:off x="3569040" y="3527280"/>
                  <a:ext cx="7660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k</a:t>
                  </a:r>
                  <a:r>
                    <a:rPr b="0" lang="en-US" sz="28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i="1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k</a:t>
                  </a:r>
                  <a:r>
                    <a:rPr b="0" lang="en-US" sz="2800" spc="-1" strike="noStrike" baseline="-25000">
                      <a:solidFill>
                        <a:srgbClr val="c82e32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k</a:t>
                  </a:r>
                  <a:r>
                    <a:rPr b="0" lang="en-US" sz="2800" spc="-1" strike="noStrike" baseline="-25000">
                      <a:solidFill>
                        <a:srgbClr val="c82e32"/>
                      </a:solidFill>
                      <a:latin typeface="Arial"/>
                      <a:ea typeface="Arial"/>
                    </a:rPr>
                    <a:t>−</a:t>
                  </a:r>
                  <a:r>
                    <a:rPr b="0" lang="en-US" sz="2800" spc="-1" strike="noStrike" baseline="-25000">
                      <a:solidFill>
                        <a:srgbClr val="c82e32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5"/>
                <p:cNvSpPr/>
                <p:nvPr/>
              </p:nvSpPr>
              <p:spPr>
                <a:xfrm>
                  <a:off x="3505320" y="4057200"/>
                  <a:ext cx="91440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Rectangle 7"/>
              <p:cNvSpPr/>
              <p:nvPr/>
            </p:nvSpPr>
            <p:spPr>
              <a:xfrm>
                <a:off x="2135160" y="3795840"/>
                <a:ext cx="1238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Rate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Rectangle 9"/>
            <p:cNvSpPr/>
            <p:nvPr/>
          </p:nvSpPr>
          <p:spPr>
            <a:xfrm>
              <a:off x="4507560" y="3795840"/>
              <a:ext cx="250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[NO] [Br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] [NO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11"/>
          <p:cNvSpPr/>
          <p:nvPr/>
        </p:nvSpPr>
        <p:spPr>
          <a:xfrm>
            <a:off x="3015720" y="4851360"/>
            <a:ext cx="23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[NO]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[Br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ctors That Affect Reaction Rat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Presence of a Catalyst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atalysts speed up reactions by changing the mechanism of the react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atalysts are not consumed during the course of the react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talys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talysts increase the rate of a reaction by decreasing the activation energy of the reac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talysts change the mechanism by which the process occu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41" name="Picture 7" descr="14_20"/>
          <p:cNvPicPr/>
          <p:nvPr/>
        </p:nvPicPr>
        <p:blipFill>
          <a:blip r:embed="rId1"/>
          <a:srcRect l="0" t="0" r="0" b="4859"/>
          <a:stretch/>
        </p:blipFill>
        <p:spPr>
          <a:xfrm>
            <a:off x="838080" y="3962520"/>
            <a:ext cx="4267440" cy="2692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talys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3124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e way a catalyst can speed up a reaction is by holding the reactants together and helping bonds to break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44" name="Picture 5" descr="14_21"/>
          <p:cNvPicPr/>
          <p:nvPr/>
        </p:nvPicPr>
        <p:blipFill>
          <a:blip r:embed="rId1"/>
          <a:srcRect l="0" t="0" r="0" b="4539"/>
          <a:stretch/>
        </p:blipFill>
        <p:spPr>
          <a:xfrm>
            <a:off x="3352680" y="2057400"/>
            <a:ext cx="5334120" cy="332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zym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028840" y="13716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nzymes are catalysts in biological system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ubstrate fits into the active site of the enzyme much like a key fits into a lock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47" name="Picture 6" descr="14_23"/>
          <p:cNvPicPr/>
          <p:nvPr/>
        </p:nvPicPr>
        <p:blipFill>
          <a:blip r:embed="rId1"/>
          <a:srcRect l="0" t="0" r="0" b="4558"/>
          <a:stretch/>
        </p:blipFill>
        <p:spPr>
          <a:xfrm>
            <a:off x="1066680" y="1905120"/>
            <a:ext cx="3137040" cy="25686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7" descr="14_24"/>
          <p:cNvPicPr/>
          <p:nvPr/>
        </p:nvPicPr>
        <p:blipFill>
          <a:blip r:embed="rId2"/>
          <a:srcRect l="0" t="0" r="0" b="7900"/>
          <a:stretch/>
        </p:blipFill>
        <p:spPr>
          <a:xfrm>
            <a:off x="533520" y="4724280"/>
            <a:ext cx="4716360" cy="183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Rat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es of reactions can be determined by monitoring the change in concentration of either reactants or products as a function of tim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6" name="Picture 6" descr="14_03"/>
          <p:cNvPicPr/>
          <p:nvPr/>
        </p:nvPicPr>
        <p:blipFill>
          <a:blip r:embed="rId1"/>
          <a:srcRect l="0" t="0" r="0" b="11562"/>
          <a:stretch/>
        </p:blipFill>
        <p:spPr>
          <a:xfrm>
            <a:off x="2421000" y="1523880"/>
            <a:ext cx="4305240" cy="2283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Rates 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his reaction, the concentration of butyl chloride, C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l, was measured at various tim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990720" y="1295280"/>
            <a:ext cx="71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H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C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14_T01"/>
          <p:cNvPicPr/>
          <p:nvPr/>
        </p:nvPicPr>
        <p:blipFill>
          <a:blip r:embed="rId1"/>
          <a:srcRect l="0" t="9593" r="47546" b="4210"/>
          <a:stretch/>
        </p:blipFill>
        <p:spPr>
          <a:xfrm>
            <a:off x="228600" y="2133720"/>
            <a:ext cx="293832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 Rates 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average rate of the reaction over each interval is the change in concentration divided by the change in time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990720" y="1295280"/>
            <a:ext cx="71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H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C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14_T01"/>
          <p:cNvPicPr/>
          <p:nvPr/>
        </p:nvPicPr>
        <p:blipFill>
          <a:blip r:embed="rId1"/>
          <a:srcRect l="0" t="9593" r="6136" b="4210"/>
          <a:stretch/>
        </p:blipFill>
        <p:spPr>
          <a:xfrm>
            <a:off x="228600" y="2133720"/>
            <a:ext cx="5257800" cy="32004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7"/>
          <p:cNvGrpSpPr/>
          <p:nvPr/>
        </p:nvGrpSpPr>
        <p:grpSpPr>
          <a:xfrm>
            <a:off x="5046120" y="5121360"/>
            <a:ext cx="3792960" cy="875880"/>
            <a:chOff x="5046120" y="5121360"/>
            <a:chExt cx="3792960" cy="875880"/>
          </a:xfrm>
        </p:grpSpPr>
        <p:sp>
          <p:nvSpPr>
            <p:cNvPr id="76" name="Rectangle 8"/>
            <p:cNvSpPr/>
            <p:nvPr/>
          </p:nvSpPr>
          <p:spPr>
            <a:xfrm>
              <a:off x="5046120" y="5349600"/>
              <a:ext cx="21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Average rate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9"/>
            <p:cNvGrpSpPr/>
            <p:nvPr/>
          </p:nvGrpSpPr>
          <p:grpSpPr>
            <a:xfrm>
              <a:off x="7347240" y="5121360"/>
              <a:ext cx="1491840" cy="875880"/>
              <a:chOff x="7347240" y="5121360"/>
              <a:chExt cx="1491840" cy="875880"/>
            </a:xfrm>
          </p:grpSpPr>
          <p:sp>
            <p:nvSpPr>
              <p:cNvPr id="78" name="Rectangle 10"/>
              <p:cNvSpPr/>
              <p:nvPr/>
            </p:nvSpPr>
            <p:spPr>
              <a:xfrm>
                <a:off x="7347240" y="5121360"/>
                <a:ext cx="146088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[C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9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l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1"/>
              <p:cNvSpPr/>
              <p:nvPr/>
            </p:nvSpPr>
            <p:spPr>
              <a:xfrm>
                <a:off x="7391160" y="5557680"/>
                <a:ext cx="144792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23:01:46Z</dcterms:created>
  <dc:creator>John Bookstaver</dc:creator>
  <dc:description/>
  <dc:language>en-US</dc:language>
  <cp:lastModifiedBy>Windows User</cp:lastModifiedBy>
  <dcterms:modified xsi:type="dcterms:W3CDTF">2010-10-27T11:39:27Z</dcterms:modified>
  <cp:revision>88</cp:revision>
  <dc:subject/>
  <dc:title>Chapter 14 Kinetics</dc:title>
</cp:coreProperties>
</file>